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10012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A05C-466B-453D-B757-C9FF7D855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BADE-CA57-431C-9CCD-32699D28E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08A7-D1A9-4F9D-B3AC-E7C76746A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BDF1-C821-4270-9AC2-B030832C5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6F52A8-8CF8-48F1-BA98-73F0E5F41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373A4C-89D9-4C80-906E-6EB233CD3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47AC7F-BB36-47C6-8EA4-9EFBD8819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719273-5AD6-4AFB-9C5B-3DAE3C8B0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E58648-3499-46B9-A2DB-DA7B5A4C3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72F795-5773-4F22-B7CE-8E4F15077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FCA254-5919-46FF-889F-4901B8E2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DE18-E4A0-4DCB-9970-51F38B3AF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615A79-5D21-4130-B816-5F3DAB7B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95C2BE-9401-493E-BBF0-FADC77AB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974265-FA2E-4D8C-8354-211143473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86057F-E39A-4F0F-AC14-5DD75BE89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88B98F-5499-4E7A-AA0F-31B28C6B8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6A12A-E428-4021-AC59-6115A8D37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6EB03-7BDC-4A94-824D-3AEE9224B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31F1C-D66C-4789-B696-D27DB3C32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1AA19-3191-4672-ABDA-26BC3CDB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8BF91-BD9D-44BC-B2F6-2C4181472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C6EE-90AC-4D0F-86FF-4DB950C49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3D8C6-C689-49DB-8A79-ED9085CCB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CB92F-2A99-4DD6-A85B-9092AEDE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45755-95E9-4B42-B360-25C67688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C7FB8-A5AC-411A-981B-D71BB18D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74AFF-564E-4F1B-A9D1-46E560BDA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BAE55-D670-4819-A557-F2A591D96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9EE62-2C29-456F-8956-248EB4C94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F7F9-4807-413A-B7FD-977647E21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BEBF-9312-42FF-9A91-3BA32F857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E951-EC12-4D3B-B4DB-593518594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8D1E-811E-4002-B5D0-03B9EC23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2476-D8B3-40CE-92E2-43593AA9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BF3A-0E24-41DB-9CD9-8B437904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13FFF-67C6-4BBB-83C5-2DC928313B4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77ECE-AE8B-4CC5-AC06-9AAAAE229026}" type="slidenum">
              <a:rPr b="0" lang="ja-JP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4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2E652-6946-493B-9172-A24CB92B806D}" type="slidenum">
              <a:rPr b="0" lang="ja-JP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-15480" y="1627920"/>
            <a:ext cx="8902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Development of New Online System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for Super-Kamiokan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66120" y="5013360"/>
            <a:ext cx="278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山田 悟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東大宇宙線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684360" y="692280"/>
            <a:ext cx="781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Book Antiqua"/>
                <a:ea typeface="BatangChe"/>
              </a:rPr>
              <a:t>Status monitor &amp; Data flow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55640" y="1557360"/>
            <a:ext cx="3570120" cy="4392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993600" y="2036880"/>
            <a:ext cx="3094200" cy="15969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754600" y="2197080"/>
            <a:ext cx="1030320" cy="717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E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104240" y="2197080"/>
            <a:ext cx="1029960" cy="717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E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230880" y="3633840"/>
            <a:ext cx="1111320" cy="63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w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514840" y="4911840"/>
            <a:ext cx="1428840" cy="717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Mer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104240" y="4911840"/>
            <a:ext cx="1428480" cy="717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Mer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071720" y="3952800"/>
            <a:ext cx="3095640" cy="16779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469880" y="2036880"/>
            <a:ext cx="2141640" cy="317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tatus moni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55640" y="1557360"/>
            <a:ext cx="3570120" cy="318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Network shared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407240" y="2435400"/>
            <a:ext cx="211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Check process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(alive or dea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Start / st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390680" y="3952800"/>
            <a:ext cx="2538360" cy="395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Data flow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234800" y="4511520"/>
            <a:ext cx="252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Control distribu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of da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4167000" y="2914560"/>
            <a:ext cx="1587240" cy="1596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4087800" y="2674800"/>
            <a:ext cx="1666800" cy="79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087800" y="2354400"/>
            <a:ext cx="158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209480" y="2492280"/>
            <a:ext cx="16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Status re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355640" y="2060640"/>
            <a:ext cx="125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omm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rot="18922200">
            <a:off x="3776040" y="3428280"/>
            <a:ext cx="227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Size of data to s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4246560" y="2994120"/>
            <a:ext cx="1984320" cy="18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rot="19158600">
            <a:off x="4135680" y="3644640"/>
            <a:ext cx="26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Tell destination of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>
            <a:off x="4167000" y="5389560"/>
            <a:ext cx="1347480" cy="7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557160" y="5300640"/>
            <a:ext cx="289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Status of processing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516720" y="2924280"/>
            <a:ext cx="142920" cy="720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7092720" y="2924280"/>
            <a:ext cx="215640" cy="720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6156360" y="4292640"/>
            <a:ext cx="503280" cy="649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877080" y="4292640"/>
            <a:ext cx="863640" cy="649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43920" y="503280"/>
            <a:ext cx="764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Book Antiqua"/>
                <a:ea typeface="Arial Unicode MS"/>
              </a:rPr>
              <a:t>4, Aiming at dead time free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84360" y="1484280"/>
            <a:ext cx="5712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 dead time as much as possib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supernova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55640" y="232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28000" y="2565360"/>
            <a:ext cx="42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 Quick exchange of the r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89160" y="3500280"/>
            <a:ext cx="551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Times New Roman"/>
              </a:rPr>
              <a:t>* High availability of th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826920" y="508464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S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t stand by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469160" y="4221000"/>
            <a:ext cx="482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is installed inside of the mi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icult to fix the trouble so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286520" y="65833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/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1405080" y="4653000"/>
            <a:ext cx="3384360" cy="503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479240" y="4724280"/>
            <a:ext cx="32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 (100-T x 48 + GbE x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622520" y="5156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125800" y="5156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630520" y="5156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925800" y="5156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430880" y="5156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843280" y="5805360"/>
            <a:ext cx="7189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148360" y="549360"/>
            <a:ext cx="1800000" cy="504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221800" y="622440"/>
            <a:ext cx="15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 end 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2484000" y="4078440"/>
            <a:ext cx="3240" cy="5029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900520" y="5929200"/>
            <a:ext cx="56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576880" y="41497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s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148360" y="4653000"/>
            <a:ext cx="1800000" cy="504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221800" y="4726080"/>
            <a:ext cx="15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 end 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148360" y="2349360"/>
            <a:ext cx="1800000" cy="505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221800" y="2422440"/>
            <a:ext cx="15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 end 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rot="16200000">
            <a:off x="6623640" y="2889360"/>
            <a:ext cx="2305080" cy="503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rot="16200000">
            <a:off x="6699240" y="296244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 ( GbE x 48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405080" y="1341360"/>
            <a:ext cx="360360" cy="792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405080" y="549360"/>
            <a:ext cx="3384360" cy="503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rot="16200000">
            <a:off x="1121760" y="152568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-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909800" y="1341360"/>
            <a:ext cx="360360" cy="792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rot="16200000">
            <a:off x="1666080" y="156096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-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13080" y="1341360"/>
            <a:ext cx="360360" cy="792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2169000" y="156096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-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479240" y="620640"/>
            <a:ext cx="32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 (100-T x 48 + GbE x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622520" y="105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125800" y="105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30520" y="105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925800" y="105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430880" y="105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843280" y="1701720"/>
            <a:ext cx="7189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900520" y="1825560"/>
            <a:ext cx="56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405080" y="2347920"/>
            <a:ext cx="3384360" cy="503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479240" y="2419200"/>
            <a:ext cx="32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 (100-T x 48 + GbE x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622520" y="28512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125800" y="28512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630520" y="28512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925800" y="28512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430880" y="28512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843280" y="3500280"/>
            <a:ext cx="7189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900520" y="3624120"/>
            <a:ext cx="56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rot="16200000">
            <a:off x="-541080" y="3141720"/>
            <a:ext cx="2233440" cy="502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rot="16200000">
            <a:off x="-501480" y="321336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 ( GbE x 24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84360" y="4508640"/>
            <a:ext cx="0" cy="194472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84360" y="6453360"/>
            <a:ext cx="4464000" cy="0"/>
          </a:xfrm>
          <a:prstGeom prst="line">
            <a:avLst/>
          </a:prstGeom>
          <a:ln w="2844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148360" y="5661000"/>
            <a:ext cx="1800000" cy="86508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221800" y="5734080"/>
            <a:ext cx="15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 end 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 stand-by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68360" y="6669000"/>
            <a:ext cx="6767640" cy="0"/>
          </a:xfrm>
          <a:prstGeom prst="line">
            <a:avLst/>
          </a:prstGeom>
          <a:ln w="2844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68360" y="4508640"/>
            <a:ext cx="0" cy="216036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826920" y="4365720"/>
            <a:ext cx="289080" cy="0"/>
          </a:xfrm>
          <a:prstGeom prst="line">
            <a:avLst/>
          </a:prstGeom>
          <a:ln w="28440">
            <a:solidFill>
              <a:srgbClr val="ff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116000" y="4365720"/>
            <a:ext cx="0" cy="57600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826920" y="2637000"/>
            <a:ext cx="578160" cy="0"/>
          </a:xfrm>
          <a:prstGeom prst="line">
            <a:avLst/>
          </a:prstGeom>
          <a:ln w="28440">
            <a:solidFill>
              <a:srgbClr val="ff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116000" y="4941720"/>
            <a:ext cx="289080" cy="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116000" y="765000"/>
            <a:ext cx="0" cy="165600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116000" y="765000"/>
            <a:ext cx="289080" cy="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826920" y="2421000"/>
            <a:ext cx="289080" cy="0"/>
          </a:xfrm>
          <a:prstGeom prst="line">
            <a:avLst/>
          </a:prstGeom>
          <a:ln w="28440">
            <a:solidFill>
              <a:srgbClr val="ff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948360" y="5734080"/>
            <a:ext cx="719280" cy="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948360" y="486900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948360" y="256536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948360" y="76500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236000" y="765000"/>
            <a:ext cx="0" cy="165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236000" y="242100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236000" y="414972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236000" y="4149720"/>
            <a:ext cx="0" cy="7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667640" y="4292640"/>
            <a:ext cx="0" cy="1441440"/>
          </a:xfrm>
          <a:prstGeom prst="line">
            <a:avLst/>
          </a:prstGeom>
          <a:ln w="28440">
            <a:solidFill>
              <a:srgbClr val="ff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885080" y="4292640"/>
            <a:ext cx="0" cy="1657440"/>
          </a:xfrm>
          <a:prstGeom prst="line">
            <a:avLst/>
          </a:prstGeom>
          <a:ln w="28440">
            <a:solidFill>
              <a:srgbClr val="ff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788000" y="76500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788000" y="486900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788000" y="256536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237440" y="5948280"/>
            <a:ext cx="1800360" cy="86544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7310880" y="6021360"/>
            <a:ext cx="15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 end 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 stand-by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rot="16200000">
            <a:off x="-425880" y="55198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cc"/>
                </a:solidFill>
                <a:latin typeface="Arial"/>
              </a:rPr>
              <a:t>backup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8028000" y="2924280"/>
            <a:ext cx="504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rot="16200000">
            <a:off x="7840080" y="2725920"/>
            <a:ext cx="175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ownstr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68360" y="54936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635240" y="47628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728880" y="1346040"/>
            <a:ext cx="360360" cy="792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rot="16200000">
            <a:off x="3485160" y="156564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-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232160" y="1346040"/>
            <a:ext cx="360360" cy="792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rot="16200000">
            <a:off x="3988440" y="156564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-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425600" y="3146400"/>
            <a:ext cx="360360" cy="792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rot="16200000">
            <a:off x="1181880" y="336600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-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928880" y="3146400"/>
            <a:ext cx="360360" cy="792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rot="16200000">
            <a:off x="1684800" y="336600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-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801960" y="3146400"/>
            <a:ext cx="360360" cy="792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rot="16200000">
            <a:off x="3558240" y="336600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-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305240" y="3146400"/>
            <a:ext cx="360360" cy="792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rot="16200000">
            <a:off x="4061520" y="336600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-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425600" y="5450040"/>
            <a:ext cx="360360" cy="79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rot="16200000">
            <a:off x="1181880" y="566928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-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928880" y="5450040"/>
            <a:ext cx="360360" cy="79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rot="16200000">
            <a:off x="1684800" y="566928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-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728880" y="5450040"/>
            <a:ext cx="360360" cy="79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rot="16200000">
            <a:off x="3485160" y="566928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-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232160" y="5450040"/>
            <a:ext cx="360360" cy="79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rot="16200000">
            <a:off x="3988440" y="566928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-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2505240" y="5450040"/>
            <a:ext cx="360360" cy="79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rot="16200000">
            <a:off x="2261160" y="566928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-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05240" y="3146400"/>
            <a:ext cx="360360" cy="792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2261160" y="336600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-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"/>
          <p:cNvSpPr/>
          <p:nvPr/>
        </p:nvSpPr>
        <p:spPr>
          <a:xfrm>
            <a:off x="189000" y="404640"/>
            <a:ext cx="730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Book Antiqua"/>
                <a:ea typeface="Arial Unicode MS"/>
              </a:rPr>
              <a:t>5, Current Status of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-29520" y="4581360"/>
            <a:ext cx="941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  <a:ea typeface="Arial Unicode MS"/>
              </a:rPr>
              <a:t>Toward Joint-test with new electronics in summer</a:t>
            </a:r>
            <a:r>
              <a:rPr b="0" lang="ja-JP" sz="2800" spc="-1" strike="noStrike">
                <a:solidFill>
                  <a:srgbClr val="000000"/>
                </a:solidFill>
                <a:latin typeface="Book Antiqua"/>
                <a:ea typeface="Arial Unicode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  <a:ea typeface="Arial Unicode MS"/>
              </a:rPr>
              <a:t>2007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75400" y="1125360"/>
            <a:ext cx="806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  <a:ea typeface="Arial Unicode MS"/>
              </a:rPr>
              <a:t>Start development from upstream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853920" y="2666880"/>
            <a:ext cx="3084840" cy="1770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727520" y="2666880"/>
            <a:ext cx="2624040" cy="1770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050840" y="2982960"/>
            <a:ext cx="787320" cy="1201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840680" y="228744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5384160" y="2287440"/>
            <a:ext cx="15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r 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1247760" y="1844640"/>
            <a:ext cx="1901880" cy="442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 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282840" y="1844640"/>
            <a:ext cx="1903680" cy="442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us mon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318280" y="1844640"/>
            <a:ext cx="1901520" cy="442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035080" y="2982960"/>
            <a:ext cx="785880" cy="1201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952720" y="2982960"/>
            <a:ext cx="787320" cy="1201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054760" y="2982960"/>
            <a:ext cx="787320" cy="1201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235560" y="2982960"/>
            <a:ext cx="787680" cy="1201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g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95280" y="3425760"/>
            <a:ext cx="460440" cy="316080"/>
          </a:xfrm>
          <a:prstGeom prst="rightArrow">
            <a:avLst>
              <a:gd name="adj1" fmla="val 50000"/>
              <a:gd name="adj2" fmla="val 36418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938760" y="3362400"/>
            <a:ext cx="788760" cy="315720"/>
          </a:xfrm>
          <a:prstGeom prst="rightArrow">
            <a:avLst>
              <a:gd name="adj1" fmla="val 50000"/>
              <a:gd name="adj2" fmla="val 6245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7351560" y="3425760"/>
            <a:ext cx="460440" cy="316080"/>
          </a:xfrm>
          <a:prstGeom prst="rightArrow">
            <a:avLst>
              <a:gd name="adj1" fmla="val 50000"/>
              <a:gd name="adj2" fmla="val 36418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92200" y="2603520"/>
            <a:ext cx="4987800" cy="822240"/>
          </a:xfrm>
          <a:prstGeom prst="rightArrow">
            <a:avLst>
              <a:gd name="adj1" fmla="val 58824"/>
              <a:gd name="adj2" fmla="val 6967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763640" y="630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800" y="62373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078520" y="62373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435640" y="5877000"/>
            <a:ext cx="1873080" cy="216000"/>
          </a:xfrm>
          <a:prstGeom prst="rightArrow">
            <a:avLst>
              <a:gd name="adj1" fmla="val 50000"/>
              <a:gd name="adj2" fmla="val 21679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527800" y="5157720"/>
            <a:ext cx="1558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ull on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ystem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95280" y="6093000"/>
            <a:ext cx="504720" cy="144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900000" y="6093000"/>
            <a:ext cx="505080" cy="144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403280" y="6093000"/>
            <a:ext cx="504720" cy="144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908000" y="6093000"/>
            <a:ext cx="505080" cy="144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411280" y="6093000"/>
            <a:ext cx="505080" cy="144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916360" y="6093000"/>
            <a:ext cx="504720" cy="144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419640" y="6093000"/>
            <a:ext cx="504720" cy="144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924360" y="6093000"/>
            <a:ext cx="504720" cy="144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427640" y="6093000"/>
            <a:ext cx="504720" cy="144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932360" y="6093000"/>
            <a:ext cx="504720" cy="144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5435640" y="6093000"/>
            <a:ext cx="504720" cy="144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940360" y="6093000"/>
            <a:ext cx="504720" cy="144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443640" y="6093000"/>
            <a:ext cx="504720" cy="144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948360" y="6093000"/>
            <a:ext cx="505080" cy="144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7451640" y="6093000"/>
            <a:ext cx="505080" cy="144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7956720" y="6093000"/>
            <a:ext cx="504720" cy="144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8459640" y="6021360"/>
            <a:ext cx="505080" cy="289080"/>
          </a:xfrm>
          <a:prstGeom prst="rightArrow">
            <a:avLst>
              <a:gd name="adj1" fmla="val 50000"/>
              <a:gd name="adj2" fmla="val 4368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476360" y="6210360"/>
            <a:ext cx="576360" cy="647640"/>
          </a:xfrm>
          <a:prstGeom prst="upArrowCallout">
            <a:avLst>
              <a:gd name="adj1" fmla="val 13761"/>
              <a:gd name="adj2" fmla="val 25000"/>
              <a:gd name="adj3" fmla="val 18795"/>
              <a:gd name="adj4" fmla="val 80876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N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564000" y="5084640"/>
            <a:ext cx="216000" cy="1008360"/>
          </a:xfrm>
          <a:prstGeom prst="downArrow">
            <a:avLst>
              <a:gd name="adj1" fmla="val 50000"/>
              <a:gd name="adj2" fmla="val 11670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/>
          <p:nvPr/>
        </p:nvSpPr>
        <p:spPr>
          <a:xfrm>
            <a:off x="444960" y="349200"/>
            <a:ext cx="841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Book Antiqua"/>
              </a:rPr>
              <a:t>Test of the prototype in Front End PC(FE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25600" y="2386080"/>
            <a:ext cx="7921440" cy="4282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15960" y="293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81120" y="2998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723960" y="4154400"/>
            <a:ext cx="1176120" cy="612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522520" y="2521080"/>
            <a:ext cx="981000" cy="476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424240" y="3881520"/>
            <a:ext cx="3797280" cy="10872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406680" y="6058080"/>
            <a:ext cx="1832040" cy="474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 flipV="1">
            <a:off x="1344600" y="2997360"/>
            <a:ext cx="1144440" cy="115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900080" y="4424400"/>
            <a:ext cx="52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508040" y="4765680"/>
            <a:ext cx="1898640" cy="135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522520" y="3270240"/>
            <a:ext cx="1046160" cy="407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IL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733920" y="5310360"/>
            <a:ext cx="1046160" cy="406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IL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046320" y="2997360"/>
            <a:ext cx="0" cy="2728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013200" y="3676680"/>
            <a:ext cx="0" cy="204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192560" y="4970520"/>
            <a:ext cx="0" cy="339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192560" y="5718240"/>
            <a:ext cx="0" cy="339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923400" y="3132000"/>
            <a:ext cx="137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thread_cre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512360" y="5513400"/>
            <a:ext cx="137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thread_cre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701880" y="3270240"/>
            <a:ext cx="1046160" cy="407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IL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946760" y="3270240"/>
            <a:ext cx="1046160" cy="407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IL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159080" y="2997360"/>
            <a:ext cx="0" cy="2728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5470560" y="2997360"/>
            <a:ext cx="0" cy="2728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435640" y="3676680"/>
            <a:ext cx="0" cy="204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550200" y="3405240"/>
            <a:ext cx="590400" cy="20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140600" y="3405240"/>
            <a:ext cx="590400" cy="20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7729560" y="3405240"/>
            <a:ext cx="588960" cy="20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6550200" y="3610080"/>
            <a:ext cx="590400" cy="2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7140600" y="3610080"/>
            <a:ext cx="590400" cy="2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7729560" y="3610080"/>
            <a:ext cx="588960" cy="2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6550200" y="3813120"/>
            <a:ext cx="590400" cy="20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7140600" y="3813120"/>
            <a:ext cx="590400" cy="20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7729560" y="3813120"/>
            <a:ext cx="588960" cy="20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550200" y="4017960"/>
            <a:ext cx="590400" cy="2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7140600" y="4017960"/>
            <a:ext cx="590400" cy="2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7729560" y="4017960"/>
            <a:ext cx="588960" cy="2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550200" y="4221000"/>
            <a:ext cx="590400" cy="33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140600" y="4221000"/>
            <a:ext cx="590400" cy="33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7729560" y="4221000"/>
            <a:ext cx="588960" cy="33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550200" y="4560840"/>
            <a:ext cx="590400" cy="34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7729560" y="4560840"/>
            <a:ext cx="588960" cy="34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7140600" y="4560840"/>
            <a:ext cx="590400" cy="34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548040" y="2657520"/>
            <a:ext cx="2084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cated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fixed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 rot="5400000">
            <a:off x="2309400" y="4263840"/>
            <a:ext cx="884160" cy="3920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rot="5400000">
            <a:off x="2833200" y="4263840"/>
            <a:ext cx="884160" cy="3920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 rot="5400000">
            <a:off x="3358440" y="4263120"/>
            <a:ext cx="884160" cy="393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rot="5400000">
            <a:off x="3882240" y="4263120"/>
            <a:ext cx="884160" cy="393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 rot="5400000">
            <a:off x="4406040" y="4263120"/>
            <a:ext cx="884160" cy="393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 rot="5400000">
            <a:off x="5452200" y="4263120"/>
            <a:ext cx="884160" cy="393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158440" y="4375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109480" y="503856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 th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3733920" y="2521080"/>
            <a:ext cx="981000" cy="476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978440" y="2521080"/>
            <a:ext cx="981000" cy="476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192560" y="3676680"/>
            <a:ext cx="0" cy="204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556000" y="1773360"/>
            <a:ext cx="981000" cy="476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B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3733920" y="1773360"/>
            <a:ext cx="981000" cy="476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B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978440" y="1773360"/>
            <a:ext cx="981000" cy="476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B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013200" y="2249640"/>
            <a:ext cx="0" cy="27288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192560" y="2249640"/>
            <a:ext cx="0" cy="27288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5435640" y="2249640"/>
            <a:ext cx="0" cy="27288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 flipH="1" flipV="1">
            <a:off x="3012840" y="2928960"/>
            <a:ext cx="386244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H="1" flipV="1">
            <a:off x="4192200" y="2928960"/>
            <a:ext cx="327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H="1" flipV="1">
            <a:off x="5502240" y="2928960"/>
            <a:ext cx="2486160" cy="544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1" name=""/>
          <p:cNvGrpSpPr/>
          <p:nvPr/>
        </p:nvGrpSpPr>
        <p:grpSpPr>
          <a:xfrm>
            <a:off x="2620800" y="2317680"/>
            <a:ext cx="262080" cy="339480"/>
            <a:chOff x="2620800" y="2317680"/>
            <a:chExt cx="262080" cy="339480"/>
          </a:xfrm>
        </p:grpSpPr>
        <p:sp>
          <p:nvSpPr>
            <p:cNvPr id="902" name=""/>
            <p:cNvSpPr/>
            <p:nvPr/>
          </p:nvSpPr>
          <p:spPr>
            <a:xfrm>
              <a:off x="2620800" y="2317680"/>
              <a:ext cx="262080" cy="673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620800" y="2385000"/>
              <a:ext cx="262080" cy="66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620800" y="2454120"/>
              <a:ext cx="262080" cy="669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620800" y="2521080"/>
              <a:ext cx="262080" cy="673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620800" y="2590200"/>
              <a:ext cx="262080" cy="6696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3798720" y="2317680"/>
            <a:ext cx="262080" cy="339480"/>
            <a:chOff x="3798720" y="2317680"/>
            <a:chExt cx="262080" cy="339480"/>
          </a:xfrm>
        </p:grpSpPr>
        <p:sp>
          <p:nvSpPr>
            <p:cNvPr id="908" name=""/>
            <p:cNvSpPr/>
            <p:nvPr/>
          </p:nvSpPr>
          <p:spPr>
            <a:xfrm>
              <a:off x="3798720" y="2317680"/>
              <a:ext cx="262080" cy="673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798720" y="2385000"/>
              <a:ext cx="262080" cy="66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98720" y="2454120"/>
              <a:ext cx="262080" cy="669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798720" y="2521080"/>
              <a:ext cx="262080" cy="673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798720" y="2590200"/>
              <a:ext cx="262080" cy="6696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5043600" y="2317680"/>
            <a:ext cx="260280" cy="339480"/>
            <a:chOff x="5043600" y="2317680"/>
            <a:chExt cx="260280" cy="339480"/>
          </a:xfrm>
        </p:grpSpPr>
        <p:sp>
          <p:nvSpPr>
            <p:cNvPr id="914" name=""/>
            <p:cNvSpPr/>
            <p:nvPr/>
          </p:nvSpPr>
          <p:spPr>
            <a:xfrm>
              <a:off x="5043600" y="2317680"/>
              <a:ext cx="260280" cy="673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043600" y="2385000"/>
              <a:ext cx="260280" cy="66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043600" y="2454120"/>
              <a:ext cx="260280" cy="669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043600" y="2521080"/>
              <a:ext cx="260280" cy="673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043600" y="2590200"/>
              <a:ext cx="260280" cy="6696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9" name=""/>
          <p:cNvSpPr/>
          <p:nvPr/>
        </p:nvSpPr>
        <p:spPr>
          <a:xfrm>
            <a:off x="967680" y="199692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0" name=""/>
          <p:cNvGrpSpPr/>
          <p:nvPr/>
        </p:nvGrpSpPr>
        <p:grpSpPr>
          <a:xfrm>
            <a:off x="3476520" y="5013360"/>
            <a:ext cx="262080" cy="1428480"/>
            <a:chOff x="3476520" y="5013360"/>
            <a:chExt cx="262080" cy="1428480"/>
          </a:xfrm>
        </p:grpSpPr>
        <p:sp>
          <p:nvSpPr>
            <p:cNvPr id="921" name=""/>
            <p:cNvSpPr/>
            <p:nvPr/>
          </p:nvSpPr>
          <p:spPr>
            <a:xfrm>
              <a:off x="3476520" y="5013360"/>
              <a:ext cx="262080" cy="673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476520" y="5149800"/>
              <a:ext cx="262080" cy="66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476520" y="5082120"/>
              <a:ext cx="262080" cy="673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476520" y="5287680"/>
              <a:ext cx="262080" cy="673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476520" y="5220360"/>
              <a:ext cx="262080" cy="669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476520" y="5422320"/>
              <a:ext cx="262080" cy="673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476520" y="5355360"/>
              <a:ext cx="262080" cy="669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476520" y="5559120"/>
              <a:ext cx="262080" cy="669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476520" y="5491440"/>
              <a:ext cx="262080" cy="673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476520" y="5695560"/>
              <a:ext cx="262080" cy="669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476520" y="5627880"/>
              <a:ext cx="262080" cy="673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476520" y="5830560"/>
              <a:ext cx="262080" cy="669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476520" y="5762880"/>
              <a:ext cx="262080" cy="673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476520" y="5966640"/>
              <a:ext cx="262080" cy="669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476520" y="5899320"/>
              <a:ext cx="262080" cy="669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476520" y="6103080"/>
              <a:ext cx="262080" cy="6732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476520" y="6035760"/>
              <a:ext cx="262080" cy="6696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476520" y="6238080"/>
              <a:ext cx="262080" cy="6732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476520" y="6170760"/>
              <a:ext cx="262080" cy="6696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476520" y="6374880"/>
              <a:ext cx="262080" cy="6696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3476520" y="6307200"/>
              <a:ext cx="262080" cy="6732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2" name=""/>
          <p:cNvGrpSpPr/>
          <p:nvPr/>
        </p:nvGrpSpPr>
        <p:grpSpPr>
          <a:xfrm>
            <a:off x="971640" y="981000"/>
            <a:ext cx="6985080" cy="576360"/>
            <a:chOff x="971640" y="981000"/>
            <a:chExt cx="6985080" cy="576360"/>
          </a:xfrm>
        </p:grpSpPr>
        <p:sp>
          <p:nvSpPr>
            <p:cNvPr id="943" name=""/>
            <p:cNvSpPr/>
            <p:nvPr/>
          </p:nvSpPr>
          <p:spPr>
            <a:xfrm>
              <a:off x="971640" y="981000"/>
              <a:ext cx="6985080" cy="576360"/>
            </a:xfrm>
            <a:prstGeom prst="foldedCorner">
              <a:avLst>
                <a:gd name="adj" fmla="val 125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035360" y="995400"/>
              <a:ext cx="681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 data from 30 Qbee and sort them in time or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/>
          <p:nvPr/>
        </p:nvSpPr>
        <p:spPr>
          <a:xfrm>
            <a:off x="1332000" y="1052640"/>
            <a:ext cx="5832360" cy="647640"/>
          </a:xfrm>
          <a:prstGeom prst="foldedCorner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95040" y="333360"/>
            <a:ext cx="885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Book Antiqua"/>
                <a:ea typeface="Arial Unicode MS"/>
              </a:rPr>
              <a:t>Transfer speed from daughter board of QB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7" name="" descr=""/>
          <p:cNvPicPr/>
          <p:nvPr/>
        </p:nvPicPr>
        <p:blipFill>
          <a:blip r:embed="rId1"/>
          <a:stretch/>
        </p:blipFill>
        <p:spPr>
          <a:xfrm>
            <a:off x="4716360" y="3595680"/>
            <a:ext cx="3959280" cy="3262320"/>
          </a:xfrm>
          <a:prstGeom prst="rect">
            <a:avLst/>
          </a:prstGeom>
          <a:ln w="0">
            <a:noFill/>
          </a:ln>
        </p:spPr>
      </p:pic>
      <p:pic>
        <p:nvPicPr>
          <p:cNvPr id="948" name="" descr=""/>
          <p:cNvPicPr/>
          <p:nvPr/>
        </p:nvPicPr>
        <p:blipFill>
          <a:blip r:embed="rId2"/>
          <a:stretch/>
        </p:blipFill>
        <p:spPr>
          <a:xfrm>
            <a:off x="539640" y="3446640"/>
            <a:ext cx="4140360" cy="3411360"/>
          </a:xfrm>
          <a:prstGeom prst="rect">
            <a:avLst/>
          </a:prstGeom>
          <a:ln w="0">
            <a:noFill/>
          </a:ln>
        </p:spPr>
      </p:pic>
      <p:sp>
        <p:nvSpPr>
          <p:cNvPr id="949" name=""/>
          <p:cNvSpPr/>
          <p:nvPr/>
        </p:nvSpPr>
        <p:spPr>
          <a:xfrm>
            <a:off x="3851280" y="2565360"/>
            <a:ext cx="1440000" cy="64764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w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443640" y="2421000"/>
            <a:ext cx="1440000" cy="93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E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5291280" y="292572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340000" y="263700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5364000" y="5373720"/>
            <a:ext cx="35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224400" y="5013360"/>
            <a:ext cx="252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5MB/s@10kHz ra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5800" y="213372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400760" y="1125360"/>
            <a:ext cx="569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ly 1Gbps( &gt; 45MB/s) has been achie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492360" y="2255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0Ba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132000" y="2708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132000" y="278136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132000" y="285264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132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971640" y="2205000"/>
            <a:ext cx="1368360" cy="86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157760" y="24210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QB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341800" y="2276640"/>
            <a:ext cx="82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78640" y="1841400"/>
            <a:ext cx="25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pseudo-random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4286520" y="65833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/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7" name=""/>
          <p:cNvGrpSpPr/>
          <p:nvPr/>
        </p:nvGrpSpPr>
        <p:grpSpPr>
          <a:xfrm>
            <a:off x="4346640" y="2905200"/>
            <a:ext cx="4797360" cy="3952800"/>
            <a:chOff x="4346640" y="2905200"/>
            <a:chExt cx="4797360" cy="3952800"/>
          </a:xfrm>
        </p:grpSpPr>
        <p:pic>
          <p:nvPicPr>
            <p:cNvPr id="968" name="" descr=""/>
            <p:cNvPicPr/>
            <p:nvPr/>
          </p:nvPicPr>
          <p:blipFill>
            <a:blip r:embed="rId1"/>
            <a:stretch/>
          </p:blipFill>
          <p:spPr>
            <a:xfrm>
              <a:off x="4346640" y="2905200"/>
              <a:ext cx="4797360" cy="39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9" name=""/>
            <p:cNvSpPr/>
            <p:nvPr/>
          </p:nvSpPr>
          <p:spPr>
            <a:xfrm>
              <a:off x="5364000" y="4921560"/>
              <a:ext cx="315288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588000" y="4489560"/>
              <a:ext cx="1871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45MBytes/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1" name=""/>
          <p:cNvSpPr/>
          <p:nvPr/>
        </p:nvSpPr>
        <p:spPr>
          <a:xfrm>
            <a:off x="468360" y="1413000"/>
            <a:ext cx="3672000" cy="1368360"/>
          </a:xfrm>
          <a:prstGeom prst="foldedCorner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63960" y="479520"/>
            <a:ext cx="328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Book Antiqua"/>
                <a:ea typeface="Arial Unicode MS"/>
              </a:rPr>
              <a:t>Sorting spee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551880" y="1557360"/>
            <a:ext cx="347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sult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Book Antiqua"/>
              </a:rPr>
              <a:t>～</a:t>
            </a:r>
            <a:r>
              <a:rPr b="1" lang="en-US" sz="2800" spc="-1" strike="noStrike">
                <a:solidFill>
                  <a:srgbClr val="ff0000"/>
                </a:solidFill>
                <a:latin typeface="Book Antiqua"/>
              </a:rPr>
              <a:t>77MB/s 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&gt; 45MB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395280" y="3645000"/>
            <a:ext cx="3024360" cy="21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Sorting process is bottleneck in FEPC, but the rate above 45MB/s is achieved in the prototype 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5292720" y="1125360"/>
            <a:ext cx="3084480" cy="1770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5364000" y="1413000"/>
            <a:ext cx="787680" cy="1201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473880" y="1441440"/>
            <a:ext cx="785880" cy="1201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7524720" y="1413000"/>
            <a:ext cx="787320" cy="1201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372360" y="1628640"/>
            <a:ext cx="1008000" cy="289080"/>
          </a:xfrm>
          <a:prstGeom prst="rightArrow">
            <a:avLst>
              <a:gd name="adj1" fmla="val 50000"/>
              <a:gd name="adj2" fmla="val 87173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303240" y="69228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162720" y="476280"/>
            <a:ext cx="465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Book Antiqua"/>
                <a:ea typeface="Arial Unicode MS"/>
              </a:rPr>
              <a:t>Prototype in Merger P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468360" y="1052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Collect data in a time window from Every FEPC to one Mer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* The time window should be overlap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Data is merged in time order and sent to Software trig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57040" y="5925960"/>
            <a:ext cx="2714760" cy="7430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93680" y="4998960"/>
            <a:ext cx="2714760" cy="7430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193680" y="4132440"/>
            <a:ext cx="2714760" cy="7426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2003040" y="6111720"/>
            <a:ext cx="680760" cy="341640"/>
            <a:chOff x="2003040" y="6111720"/>
            <a:chExt cx="680760" cy="341640"/>
          </a:xfrm>
        </p:grpSpPr>
        <p:sp>
          <p:nvSpPr>
            <p:cNvPr id="987" name=""/>
            <p:cNvSpPr/>
            <p:nvPr/>
          </p:nvSpPr>
          <p:spPr>
            <a:xfrm rot="5400000">
              <a:off x="2294280" y="6209280"/>
              <a:ext cx="341640" cy="1465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rot="5400000">
              <a:off x="2198160" y="6257160"/>
              <a:ext cx="341640" cy="50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rot="5400000">
              <a:off x="2149920" y="6258240"/>
              <a:ext cx="341640" cy="482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rot="5400000">
              <a:off x="2075760" y="6232680"/>
              <a:ext cx="341640" cy="993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rot="5400000">
              <a:off x="2004480" y="6258240"/>
              <a:ext cx="341640" cy="482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rot="5400000">
              <a:off x="1905480" y="6209280"/>
              <a:ext cx="341640" cy="1465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rot="5400000">
              <a:off x="2463840" y="6233400"/>
              <a:ext cx="341640" cy="98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rot="5400000">
              <a:off x="2388960" y="6257160"/>
              <a:ext cx="341640" cy="50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"/>
          <p:cNvGrpSpPr/>
          <p:nvPr/>
        </p:nvGrpSpPr>
        <p:grpSpPr>
          <a:xfrm>
            <a:off x="2003040" y="5183280"/>
            <a:ext cx="680760" cy="342720"/>
            <a:chOff x="2003040" y="5183280"/>
            <a:chExt cx="680760" cy="342720"/>
          </a:xfrm>
        </p:grpSpPr>
        <p:sp>
          <p:nvSpPr>
            <p:cNvPr id="996" name=""/>
            <p:cNvSpPr/>
            <p:nvPr/>
          </p:nvSpPr>
          <p:spPr>
            <a:xfrm rot="5400000">
              <a:off x="2293560" y="5281200"/>
              <a:ext cx="342720" cy="1465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rot="5400000">
              <a:off x="2197440" y="5329080"/>
              <a:ext cx="342720" cy="50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 rot="5400000">
              <a:off x="2149560" y="5330520"/>
              <a:ext cx="342720" cy="482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 rot="5400000">
              <a:off x="2075400" y="5304960"/>
              <a:ext cx="342720" cy="993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rot="5400000">
              <a:off x="2004120" y="5330520"/>
              <a:ext cx="342720" cy="482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rot="5400000">
              <a:off x="1904760" y="5281200"/>
              <a:ext cx="342720" cy="1465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rot="5400000">
              <a:off x="2463120" y="5305320"/>
              <a:ext cx="342720" cy="98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rot="5400000">
              <a:off x="2388240" y="5329080"/>
              <a:ext cx="342720" cy="50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4" name=""/>
          <p:cNvGrpSpPr/>
          <p:nvPr/>
        </p:nvGrpSpPr>
        <p:grpSpPr>
          <a:xfrm>
            <a:off x="2003040" y="4317840"/>
            <a:ext cx="680760" cy="343080"/>
            <a:chOff x="2003040" y="4317840"/>
            <a:chExt cx="680760" cy="343080"/>
          </a:xfrm>
        </p:grpSpPr>
        <p:sp>
          <p:nvSpPr>
            <p:cNvPr id="1005" name=""/>
            <p:cNvSpPr/>
            <p:nvPr/>
          </p:nvSpPr>
          <p:spPr>
            <a:xfrm rot="5400000">
              <a:off x="2293560" y="4416120"/>
              <a:ext cx="343080" cy="1465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rot="5400000">
              <a:off x="2197440" y="4464000"/>
              <a:ext cx="343080" cy="50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rot="5400000">
              <a:off x="2149200" y="4465080"/>
              <a:ext cx="343080" cy="482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rot="5400000">
              <a:off x="2075040" y="4439520"/>
              <a:ext cx="343080" cy="993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rot="5400000">
              <a:off x="2003760" y="4465080"/>
              <a:ext cx="343080" cy="482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rot="5400000">
              <a:off x="1904760" y="4416120"/>
              <a:ext cx="343080" cy="1465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 rot="5400000">
              <a:off x="2463120" y="4440240"/>
              <a:ext cx="343080" cy="98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 rot="5400000">
              <a:off x="2388240" y="4464000"/>
              <a:ext cx="343080" cy="50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3" name=""/>
          <p:cNvSpPr/>
          <p:nvPr/>
        </p:nvSpPr>
        <p:spPr>
          <a:xfrm>
            <a:off x="193680" y="3203640"/>
            <a:ext cx="2714760" cy="7430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1162080" y="2276640"/>
            <a:ext cx="1033560" cy="555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257040" y="2338560"/>
            <a:ext cx="1033560" cy="493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2003400" y="2338560"/>
            <a:ext cx="905040" cy="4935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2001600" y="3389400"/>
            <a:ext cx="680400" cy="342720"/>
            <a:chOff x="2001600" y="3389400"/>
            <a:chExt cx="680400" cy="342720"/>
          </a:xfrm>
        </p:grpSpPr>
        <p:sp>
          <p:nvSpPr>
            <p:cNvPr id="1018" name=""/>
            <p:cNvSpPr/>
            <p:nvPr/>
          </p:nvSpPr>
          <p:spPr>
            <a:xfrm rot="5400000">
              <a:off x="2292120" y="3487320"/>
              <a:ext cx="342720" cy="1465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rot="5400000">
              <a:off x="2195640" y="3535200"/>
              <a:ext cx="342720" cy="50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 rot="5400000">
              <a:off x="2147760" y="3536640"/>
              <a:ext cx="342720" cy="482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rot="5400000">
              <a:off x="2073960" y="3511080"/>
              <a:ext cx="342720" cy="993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rot="5400000">
              <a:off x="2002320" y="3536640"/>
              <a:ext cx="342720" cy="482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 rot="5400000">
              <a:off x="1903320" y="3487320"/>
              <a:ext cx="342720" cy="1465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rot="5400000">
              <a:off x="2461320" y="3511440"/>
              <a:ext cx="342720" cy="98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rot="5400000">
              <a:off x="2386440" y="3535200"/>
              <a:ext cx="342720" cy="50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6" name=""/>
          <p:cNvSpPr/>
          <p:nvPr/>
        </p:nvSpPr>
        <p:spPr>
          <a:xfrm rot="5400000">
            <a:off x="1521720" y="3486960"/>
            <a:ext cx="342720" cy="147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rot="5400000">
            <a:off x="1423440" y="3535200"/>
            <a:ext cx="342720" cy="50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rot="5400000">
            <a:off x="1371960" y="3535920"/>
            <a:ext cx="342720" cy="49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rot="5400000">
            <a:off x="1298160" y="3511440"/>
            <a:ext cx="342720" cy="9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rot="5400000">
            <a:off x="1225800" y="3535920"/>
            <a:ext cx="342720" cy="49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rot="5400000">
            <a:off x="1128240" y="3487680"/>
            <a:ext cx="342720" cy="14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rot="5400000">
            <a:off x="1693440" y="3511440"/>
            <a:ext cx="342720" cy="9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 rot="5400000">
            <a:off x="1620360" y="3535200"/>
            <a:ext cx="342720" cy="50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rot="5400000">
            <a:off x="6851880" y="5614200"/>
            <a:ext cx="341280" cy="345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rot="5400000">
            <a:off x="6687360" y="5761800"/>
            <a:ext cx="341280" cy="511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 rot="5400000">
            <a:off x="6508080" y="5634000"/>
            <a:ext cx="341280" cy="30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rot="5400000">
            <a:off x="6333480" y="5762520"/>
            <a:ext cx="341280" cy="49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rot="5400000">
            <a:off x="6105600" y="5585040"/>
            <a:ext cx="341280" cy="404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 rot="5400000">
            <a:off x="7123320" y="5738040"/>
            <a:ext cx="341280" cy="9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 rot="5400000">
            <a:off x="7048800" y="5761800"/>
            <a:ext cx="341280" cy="50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rot="5400000">
            <a:off x="1557000" y="4414680"/>
            <a:ext cx="343080" cy="146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rot="5400000">
            <a:off x="1459440" y="4461480"/>
            <a:ext cx="343080" cy="52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 rot="5400000">
            <a:off x="1406880" y="4463280"/>
            <a:ext cx="343080" cy="49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rot="5400000">
            <a:off x="1333080" y="4438800"/>
            <a:ext cx="343080" cy="9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rot="5400000">
            <a:off x="1262520" y="4463280"/>
            <a:ext cx="343080" cy="49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rot="5400000">
            <a:off x="1164240" y="4413960"/>
            <a:ext cx="343080" cy="147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rot="5400000">
            <a:off x="1730160" y="4438440"/>
            <a:ext cx="343080" cy="98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rot="5400000">
            <a:off x="1655280" y="4462560"/>
            <a:ext cx="343080" cy="50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 rot="5400000">
            <a:off x="811440" y="4418640"/>
            <a:ext cx="341280" cy="14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rot="5400000">
            <a:off x="712800" y="4465440"/>
            <a:ext cx="341280" cy="52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rot="5400000">
            <a:off x="662760" y="4467960"/>
            <a:ext cx="341280" cy="47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rot="5400000">
            <a:off x="588240" y="4442400"/>
            <a:ext cx="341280" cy="98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rot="5400000">
            <a:off x="516960" y="4466880"/>
            <a:ext cx="341280" cy="49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 rot="5400000">
            <a:off x="418320" y="4418640"/>
            <a:ext cx="341280" cy="14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rot="5400000">
            <a:off x="983520" y="4442400"/>
            <a:ext cx="341280" cy="98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 rot="5400000">
            <a:off x="908280" y="4466160"/>
            <a:ext cx="341280" cy="50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rot="5400000">
            <a:off x="1558080" y="5280840"/>
            <a:ext cx="341280" cy="146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rot="5400000">
            <a:off x="1460520" y="5327640"/>
            <a:ext cx="341280" cy="52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rot="5400000">
            <a:off x="1407600" y="5329080"/>
            <a:ext cx="341280" cy="49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rot="5400000">
            <a:off x="1333800" y="5304600"/>
            <a:ext cx="341280" cy="9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 rot="5400000">
            <a:off x="1263240" y="5329080"/>
            <a:ext cx="341280" cy="49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rot="5400000">
            <a:off x="1165320" y="5280120"/>
            <a:ext cx="341280" cy="147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rot="5400000">
            <a:off x="1731240" y="5304600"/>
            <a:ext cx="341280" cy="98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rot="5400000">
            <a:off x="1656000" y="5328360"/>
            <a:ext cx="341280" cy="50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rot="5400000">
            <a:off x="810720" y="5284800"/>
            <a:ext cx="342720" cy="14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rot="5400000">
            <a:off x="712080" y="5331600"/>
            <a:ext cx="342720" cy="52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 rot="5400000">
            <a:off x="662040" y="5334120"/>
            <a:ext cx="342720" cy="47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 rot="5400000">
            <a:off x="587520" y="5308560"/>
            <a:ext cx="342720" cy="98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rot="5400000">
            <a:off x="516240" y="5333040"/>
            <a:ext cx="342720" cy="49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rot="5400000">
            <a:off x="417600" y="5284800"/>
            <a:ext cx="342720" cy="14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 rot="5400000">
            <a:off x="982800" y="5308560"/>
            <a:ext cx="342720" cy="98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 rot="5400000">
            <a:off x="907560" y="5332320"/>
            <a:ext cx="342720" cy="50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 rot="5400000">
            <a:off x="1557720" y="6209280"/>
            <a:ext cx="341640" cy="146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 rot="5400000">
            <a:off x="1460160" y="6256080"/>
            <a:ext cx="341640" cy="52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rot="5400000">
            <a:off x="1407600" y="6257880"/>
            <a:ext cx="341640" cy="49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rot="5400000">
            <a:off x="1333800" y="6233400"/>
            <a:ext cx="341640" cy="9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rot="5400000">
            <a:off x="1263240" y="6257880"/>
            <a:ext cx="341640" cy="49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rot="5400000">
            <a:off x="1164960" y="6208560"/>
            <a:ext cx="341640" cy="147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rot="5400000">
            <a:off x="1730880" y="6233040"/>
            <a:ext cx="341640" cy="98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 rot="5400000">
            <a:off x="1656000" y="6257160"/>
            <a:ext cx="341640" cy="50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rot="5400000">
            <a:off x="810720" y="6213600"/>
            <a:ext cx="343080" cy="14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rot="5400000">
            <a:off x="711720" y="6260040"/>
            <a:ext cx="343080" cy="52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 rot="5400000">
            <a:off x="661680" y="6262560"/>
            <a:ext cx="343080" cy="47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 rot="5400000">
            <a:off x="587160" y="6237000"/>
            <a:ext cx="343080" cy="98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rot="5400000">
            <a:off x="516240" y="6261840"/>
            <a:ext cx="343080" cy="49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rot="5400000">
            <a:off x="417240" y="6213240"/>
            <a:ext cx="343080" cy="14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rot="5400000">
            <a:off x="982440" y="6237000"/>
            <a:ext cx="343080" cy="98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 rot="5400000">
            <a:off x="907560" y="6261120"/>
            <a:ext cx="343080" cy="50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070520" y="3513240"/>
            <a:ext cx="1420560" cy="6807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heap sor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070520" y="4502160"/>
            <a:ext cx="1420560" cy="681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4070520" y="5492880"/>
            <a:ext cx="1420560" cy="680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647800" y="3576600"/>
            <a:ext cx="1422720" cy="244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1808280" y="3699000"/>
            <a:ext cx="2262240" cy="11127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1162080" y="3699000"/>
            <a:ext cx="2908440" cy="21636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 flipV="1">
            <a:off x="2712960" y="3821040"/>
            <a:ext cx="1357560" cy="68112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 flipV="1">
            <a:off x="2712960" y="3820680"/>
            <a:ext cx="1357560" cy="154620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 flipV="1">
            <a:off x="2712960" y="3820680"/>
            <a:ext cx="1357560" cy="247500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1873080" y="4626000"/>
            <a:ext cx="2197440" cy="1857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 flipV="1">
            <a:off x="1936800" y="4811760"/>
            <a:ext cx="2133720" cy="619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flipV="1">
            <a:off x="1936800" y="4811400"/>
            <a:ext cx="2133720" cy="12999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1096920" y="4502160"/>
            <a:ext cx="2973600" cy="136044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1162080" y="5407200"/>
            <a:ext cx="2908440" cy="4554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V="1">
            <a:off x="1162080" y="5925960"/>
            <a:ext cx="2908440" cy="37008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 flipH="1">
            <a:off x="-360" y="2832120"/>
            <a:ext cx="316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839880" y="2462040"/>
            <a:ext cx="0" cy="37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903240" y="2462040"/>
            <a:ext cx="0" cy="37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968400" y="23986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1033560" y="258444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130480" y="2462040"/>
            <a:ext cx="0" cy="37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195640" y="2462040"/>
            <a:ext cx="0" cy="37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260440" y="23986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325600" y="258444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1486080" y="258444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450720" y="258444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1808280" y="258444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873080" y="2522520"/>
            <a:ext cx="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584440" y="23986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rot="5400000">
            <a:off x="6848640" y="3700440"/>
            <a:ext cx="342720" cy="3398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rot="5400000">
            <a:off x="6703560" y="3844800"/>
            <a:ext cx="342720" cy="50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 rot="5400000">
            <a:off x="6484320" y="3675960"/>
            <a:ext cx="342720" cy="3888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rot="5400000">
            <a:off x="6104880" y="3668040"/>
            <a:ext cx="342720" cy="404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rot="5400000">
            <a:off x="7114680" y="3821040"/>
            <a:ext cx="342720" cy="9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rot="5400000">
            <a:off x="7039800" y="3844080"/>
            <a:ext cx="342720" cy="52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rot="5400000">
            <a:off x="6850440" y="4626720"/>
            <a:ext cx="343080" cy="344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 rot="5400000">
            <a:off x="6689160" y="4773600"/>
            <a:ext cx="343080" cy="50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 rot="5400000">
            <a:off x="6508440" y="4644720"/>
            <a:ext cx="343080" cy="308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rot="5400000">
            <a:off x="6332040" y="4773600"/>
            <a:ext cx="343080" cy="50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 rot="5400000">
            <a:off x="6104520" y="4596480"/>
            <a:ext cx="343080" cy="404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rot="5400000">
            <a:off x="7121160" y="4749840"/>
            <a:ext cx="343080" cy="9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rot="5400000">
            <a:off x="7048080" y="4773600"/>
            <a:ext cx="343080" cy="50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5491080" y="3884760"/>
            <a:ext cx="58284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 rot="5400000">
            <a:off x="740880" y="3487680"/>
            <a:ext cx="342720" cy="14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 rot="5400000">
            <a:off x="642240" y="3534480"/>
            <a:ext cx="342720" cy="52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 rot="5400000">
            <a:off x="592200" y="3537000"/>
            <a:ext cx="342720" cy="47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rot="5400000">
            <a:off x="517680" y="3511440"/>
            <a:ext cx="342720" cy="98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rot="5400000">
            <a:off x="446400" y="3535920"/>
            <a:ext cx="342720" cy="49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 rot="5400000">
            <a:off x="347400" y="3487680"/>
            <a:ext cx="342720" cy="14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rot="5400000">
            <a:off x="912960" y="3511440"/>
            <a:ext cx="342720" cy="98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 rot="5400000">
            <a:off x="837720" y="3535200"/>
            <a:ext cx="342720" cy="50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5491080" y="4813200"/>
            <a:ext cx="5828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 flipV="1">
            <a:off x="5491080" y="5803920"/>
            <a:ext cx="582840" cy="648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rot="5400000">
            <a:off x="6313680" y="3846600"/>
            <a:ext cx="342720" cy="475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1100160" y="289548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7524720" y="4464000"/>
            <a:ext cx="28728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860600" y="4365720"/>
            <a:ext cx="128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g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7524720" y="5400720"/>
            <a:ext cx="28728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7524720" y="3527280"/>
            <a:ext cx="28728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286520" y="65833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/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"/>
          <p:cNvSpPr/>
          <p:nvPr/>
        </p:nvSpPr>
        <p:spPr>
          <a:xfrm rot="10800000">
            <a:off x="6948000" y="5373720"/>
            <a:ext cx="343080" cy="217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30240" y="404640"/>
            <a:ext cx="901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Book Antiqua"/>
              </a:rPr>
              <a:t>Data processing speed of merger proto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324000" y="1628640"/>
            <a:ext cx="4032000" cy="1368720"/>
          </a:xfrm>
          <a:prstGeom prst="foldedCorner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46400" y="1773360"/>
            <a:ext cx="139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sult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84480" y="2276640"/>
            <a:ext cx="41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Book Antiqua"/>
              </a:rPr>
              <a:t>～ </a:t>
            </a:r>
            <a:r>
              <a:rPr b="1" lang="en-US" sz="2800" spc="-1" strike="noStrike">
                <a:solidFill>
                  <a:srgbClr val="ff0000"/>
                </a:solidFill>
                <a:latin typeface="Book Antiqua"/>
              </a:rPr>
              <a:t>100 (MB/s)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 &lt; 108MB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79280" y="4005360"/>
            <a:ext cx="529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Additional Merger PC will redu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oad per one 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PMT rate of 10kHz in assumption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ch larger than measured rate of 4k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292720" y="3500280"/>
            <a:ext cx="1655640" cy="576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apsort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7236000" y="3500280"/>
            <a:ext cx="1655640" cy="576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rge_header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 rot="10800000">
            <a:off x="5866920" y="1585800"/>
            <a:ext cx="343080" cy="146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 rot="10800000">
            <a:off x="5866920" y="1537920"/>
            <a:ext cx="343080" cy="50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 rot="10800000">
            <a:off x="5866920" y="1490760"/>
            <a:ext cx="343080" cy="47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rot="10800000">
            <a:off x="5866920" y="1390680"/>
            <a:ext cx="343080" cy="100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 rot="10800000">
            <a:off x="5866920" y="1344240"/>
            <a:ext cx="343080" cy="49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 rot="10800000">
            <a:off x="5866920" y="1197000"/>
            <a:ext cx="343080" cy="146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rot="10800000">
            <a:off x="5866920" y="1779480"/>
            <a:ext cx="343080" cy="98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 rot="10800000">
            <a:off x="5866920" y="1728360"/>
            <a:ext cx="343080" cy="50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 rot="10800000">
            <a:off x="6587640" y="1585800"/>
            <a:ext cx="343080" cy="146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rot="10800000">
            <a:off x="6587640" y="1537920"/>
            <a:ext cx="343080" cy="50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 rot="10800000">
            <a:off x="6587640" y="1490760"/>
            <a:ext cx="343080" cy="47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rot="10800000">
            <a:off x="6587640" y="1390680"/>
            <a:ext cx="343080" cy="100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 rot="10800000">
            <a:off x="6587640" y="1344240"/>
            <a:ext cx="343080" cy="49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rot="10800000">
            <a:off x="6587640" y="1197000"/>
            <a:ext cx="343080" cy="146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 rot="10800000">
            <a:off x="6587640" y="1779480"/>
            <a:ext cx="343080" cy="98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rot="10800000">
            <a:off x="6587640" y="1728360"/>
            <a:ext cx="343080" cy="50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 rot="10800000">
            <a:off x="7236000" y="1585800"/>
            <a:ext cx="342720" cy="146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rot="10800000">
            <a:off x="7236000" y="1537920"/>
            <a:ext cx="342720" cy="50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 rot="10800000">
            <a:off x="7236000" y="1490760"/>
            <a:ext cx="342720" cy="47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 rot="10800000">
            <a:off x="7236000" y="1390680"/>
            <a:ext cx="342720" cy="100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 rot="10800000">
            <a:off x="7236000" y="1344240"/>
            <a:ext cx="342720" cy="49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 rot="10800000">
            <a:off x="7236000" y="1197000"/>
            <a:ext cx="342720" cy="146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 rot="10800000">
            <a:off x="7236000" y="1779480"/>
            <a:ext cx="342720" cy="98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 rot="10800000">
            <a:off x="7236000" y="1728360"/>
            <a:ext cx="342720" cy="50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rot="10800000">
            <a:off x="7884720" y="1585800"/>
            <a:ext cx="343080" cy="146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 rot="10800000">
            <a:off x="7884720" y="1537920"/>
            <a:ext cx="343080" cy="50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rot="10800000">
            <a:off x="7884720" y="1490760"/>
            <a:ext cx="343080" cy="47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 rot="10800000">
            <a:off x="7884720" y="1390680"/>
            <a:ext cx="343080" cy="100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 rot="10800000">
            <a:off x="7884720" y="1344240"/>
            <a:ext cx="343080" cy="49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rot="10800000">
            <a:off x="7884720" y="1197000"/>
            <a:ext cx="343080" cy="146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rot="10800000">
            <a:off x="7884720" y="1779480"/>
            <a:ext cx="343080" cy="98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 rot="10800000">
            <a:off x="7884720" y="1728360"/>
            <a:ext cx="343080" cy="50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rot="10800000">
            <a:off x="5292360" y="3068280"/>
            <a:ext cx="343080" cy="119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rot="10800000">
            <a:off x="7236000" y="2924280"/>
            <a:ext cx="342720" cy="698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rot="10800000">
            <a:off x="5292360" y="2952720"/>
            <a:ext cx="343080" cy="698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rot="10800000">
            <a:off x="5292360" y="2893680"/>
            <a:ext cx="343080" cy="81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rot="10800000">
            <a:off x="7236000" y="2852640"/>
            <a:ext cx="342720" cy="698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rot="10800000">
            <a:off x="5292360" y="2707920"/>
            <a:ext cx="343080" cy="119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rot="10800000">
            <a:off x="7667640" y="3068280"/>
            <a:ext cx="342720" cy="81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 rot="10800000">
            <a:off x="7236000" y="2997360"/>
            <a:ext cx="342720" cy="71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 rot="10800000">
            <a:off x="5724000" y="3068280"/>
            <a:ext cx="343080" cy="119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 rot="10800000">
            <a:off x="7667640" y="2924280"/>
            <a:ext cx="342720" cy="698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 rot="10800000">
            <a:off x="5724000" y="2952720"/>
            <a:ext cx="343080" cy="698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 rot="10800000">
            <a:off x="5724000" y="2893680"/>
            <a:ext cx="343080" cy="81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 rot="10800000">
            <a:off x="7667640" y="2852640"/>
            <a:ext cx="342720" cy="698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 rot="10800000">
            <a:off x="5724000" y="2707920"/>
            <a:ext cx="343080" cy="119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rot="10800000">
            <a:off x="7236000" y="3068280"/>
            <a:ext cx="342720" cy="82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rot="10800000">
            <a:off x="7667640" y="2997360"/>
            <a:ext cx="342720" cy="698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 rot="10800000">
            <a:off x="6156360" y="3068280"/>
            <a:ext cx="342720" cy="119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 rot="10800000">
            <a:off x="8101080" y="2924280"/>
            <a:ext cx="342720" cy="698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 rot="10800000">
            <a:off x="6156360" y="2952720"/>
            <a:ext cx="342720" cy="698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 rot="10800000">
            <a:off x="6156360" y="2893680"/>
            <a:ext cx="342720" cy="81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rot="10800000">
            <a:off x="8101080" y="2852640"/>
            <a:ext cx="342720" cy="698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rot="10800000">
            <a:off x="6156360" y="2707920"/>
            <a:ext cx="342720" cy="119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rot="10800000">
            <a:off x="8101080" y="3068280"/>
            <a:ext cx="342720" cy="81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rot="10800000">
            <a:off x="8101080" y="2997360"/>
            <a:ext cx="342720" cy="698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 rot="10800000">
            <a:off x="6587640" y="3068280"/>
            <a:ext cx="343080" cy="119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 rot="10800000">
            <a:off x="8532360" y="2924280"/>
            <a:ext cx="343080" cy="698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rot="10800000">
            <a:off x="6587640" y="2952720"/>
            <a:ext cx="343080" cy="698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 rot="10800000">
            <a:off x="6587640" y="2893680"/>
            <a:ext cx="343080" cy="81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 rot="10800000">
            <a:off x="8532360" y="2852640"/>
            <a:ext cx="343080" cy="698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 rot="10800000">
            <a:off x="6587640" y="2707920"/>
            <a:ext cx="343080" cy="119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 rot="10800000">
            <a:off x="8532360" y="3068280"/>
            <a:ext cx="343080" cy="81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rot="10800000">
            <a:off x="8532360" y="2997360"/>
            <a:ext cx="343080" cy="698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H="1">
            <a:off x="6587640" y="1989000"/>
            <a:ext cx="360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308720" y="1989000"/>
            <a:ext cx="432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6516720" y="4221000"/>
            <a:ext cx="2872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H="1">
            <a:off x="7524360" y="4221000"/>
            <a:ext cx="36036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rot="10800000">
            <a:off x="6948000" y="6237000"/>
            <a:ext cx="343080" cy="1458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rot="10800000">
            <a:off x="6948000" y="5761080"/>
            <a:ext cx="343080" cy="47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rot="10800000">
            <a:off x="6948000" y="5661000"/>
            <a:ext cx="343080" cy="100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 rot="10800000">
            <a:off x="6948000" y="5373360"/>
            <a:ext cx="343080" cy="49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rot="10800000">
            <a:off x="6948000" y="5229000"/>
            <a:ext cx="343080" cy="1458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 rot="10800000">
            <a:off x="6948000" y="6430680"/>
            <a:ext cx="343080" cy="9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 rot="10800000">
            <a:off x="6948000" y="6379920"/>
            <a:ext cx="343080" cy="50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rot="10800000">
            <a:off x="6948000" y="6092640"/>
            <a:ext cx="343080" cy="1458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 rot="10800000">
            <a:off x="6948000" y="5949720"/>
            <a:ext cx="343080" cy="1458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rot="10800000">
            <a:off x="6948000" y="5805360"/>
            <a:ext cx="343080" cy="217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 rot="10800000">
            <a:off x="6948000" y="5516280"/>
            <a:ext cx="343080" cy="1458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 rot="10800000">
            <a:off x="6948000" y="5808240"/>
            <a:ext cx="343080" cy="50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 rot="10800000">
            <a:off x="6948000" y="5084640"/>
            <a:ext cx="343080" cy="146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rot="10800000">
            <a:off x="6948000" y="4941720"/>
            <a:ext cx="343080" cy="146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6084720" y="1989000"/>
            <a:ext cx="648000" cy="3240360"/>
          </a:xfrm>
          <a:custGeom>
            <a:avLst/>
            <a:gdLst>
              <a:gd name="textAreaLeft" fmla="*/ 86760 w 648000"/>
              <a:gd name="textAreaRight" fmla="*/ 561240 w 648000"/>
              <a:gd name="textAreaTop" fmla="*/ 679320 h 3240360"/>
              <a:gd name="textAreaBottom" fmla="*/ 2299680 h 324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058" stAng="-5400000" swAng="-5400000"/>
                <a:lnTo>
                  <a:pt x="0" y="10800"/>
                </a:lnTo>
                <a:arcTo wR="21600" hR="9058" stAng="10800000" swAng="-2991956"/>
                <a:lnTo>
                  <a:pt x="14400" y="21082"/>
                </a:lnTo>
                <a:lnTo>
                  <a:pt x="21600" y="18987"/>
                </a:lnTo>
                <a:lnTo>
                  <a:pt x="14400" y="15856"/>
                </a:lnTo>
                <a:lnTo>
                  <a:pt x="14400" y="17598"/>
                </a:lnTo>
                <a:arcTo wR="21600" hR="9058" stAng="7808044" swAng="2852763"/>
                <a:lnTo>
                  <a:pt x="100" y="9929"/>
                </a:lnTo>
                <a:arcTo wR="21600" hR="9058" stAng="-10660807" swAng="5260807"/>
                <a:close/>
              </a:path>
              <a:path fill="darkenLess" w="21600" h="21600">
                <a:moveTo>
                  <a:pt x="21600" y="0"/>
                </a:moveTo>
                <a:arcTo wR="21600" hR="9058" stAng="-5400000" swAng="-5400000"/>
                <a:lnTo>
                  <a:pt x="0" y="9058"/>
                </a:lnTo>
                <a:arcTo wR="21600" hR="9058" stAng="10800000" swAng="-139193"/>
                <a:lnTo>
                  <a:pt x="100" y="9929"/>
                </a:lnTo>
                <a:arcTo wR="21600" hR="9058" stAng="-10660807" swAng="5260807"/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"/>
          <p:cNvSpPr/>
          <p:nvPr/>
        </p:nvSpPr>
        <p:spPr>
          <a:xfrm>
            <a:off x="473040" y="581040"/>
            <a:ext cx="30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Book Antiqua"/>
                <a:ea typeface="Arial Unicode MS"/>
              </a:rPr>
              <a:t>6,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-301320" y="1628640"/>
            <a:ext cx="9788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* New online system for SK is under development n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ts features are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* Record every hit m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* High avai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* Preparing the prototype of data processing compon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( sorting and merging ) has been d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* Joint test with new electronic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s scheduled in summer 20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221440" y="1700280"/>
            <a:ext cx="3565440" cy="1079280"/>
          </a:xfrm>
          <a:prstGeom prst="foldedCorner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2360" y="1413000"/>
            <a:ext cx="4535640" cy="1584360"/>
          </a:xfrm>
          <a:prstGeom prst="foldedCorner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1280" y="549360"/>
            <a:ext cx="85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Book Antiqua"/>
                <a:ea typeface="Arial Unicode MS"/>
              </a:rPr>
              <a:t>1, DAQ upgrade in Super-Kamiokan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" y="1484280"/>
            <a:ext cx="453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Arial Unicode MS"/>
              </a:rPr>
              <a:t>* New Electronics (Nishi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7d"/>
                </a:solidFill>
                <a:uFillTx/>
                <a:latin typeface="Book Antiqua"/>
                <a:ea typeface="Arial Unicode MS"/>
              </a:rPr>
              <a:t>* New Online system (this t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75840" y="3573360"/>
            <a:ext cx="631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Arial Unicode MS"/>
              </a:rPr>
              <a:t>The normal operation with new electron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Arial Unicode MS"/>
              </a:rPr>
              <a:t>and online system will start in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36720" y="1846440"/>
            <a:ext cx="305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Arial Unicode MS"/>
              </a:rPr>
              <a:t>Under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ook Antiqua"/>
                <a:ea typeface="Arial Unicode MS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Arial Unicode MS"/>
              </a:rPr>
              <a:t>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88000" y="2205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5589720"/>
            <a:ext cx="8353440" cy="288720"/>
          </a:xfrm>
          <a:prstGeom prst="rightArrow">
            <a:avLst>
              <a:gd name="adj1" fmla="val 56824"/>
              <a:gd name="adj2" fmla="val 8144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763640" y="5805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800" y="57340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86160" y="57340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078520" y="57340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742520" y="57340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732720" y="5373720"/>
            <a:ext cx="1655640" cy="216000"/>
          </a:xfrm>
          <a:custGeom>
            <a:avLst/>
            <a:gdLst>
              <a:gd name="textAreaLeft" fmla="*/ 258480 w 1655640"/>
              <a:gd name="textAreaRight" fmla="*/ 1449000 w 1655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620400" y="495288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35640" y="5373720"/>
            <a:ext cx="1081080" cy="216000"/>
          </a:xfrm>
          <a:prstGeom prst="rightArrow">
            <a:avLst>
              <a:gd name="adj1" fmla="val 50000"/>
              <a:gd name="adj2" fmla="val 125125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807080" y="4660920"/>
            <a:ext cx="1558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ull on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ystem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6560" y="328464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바탕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4360" y="3284640"/>
            <a:ext cx="8135640" cy="129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59280" y="5877000"/>
            <a:ext cx="865080" cy="863640"/>
          </a:xfrm>
          <a:prstGeom prst="upArrowCallout">
            <a:avLst>
              <a:gd name="adj1" fmla="val 13783"/>
              <a:gd name="adj2" fmla="val 25042"/>
              <a:gd name="adj3" fmla="val 16727"/>
              <a:gd name="adj4" fmla="val 80876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57800" y="658332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/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4005360"/>
            <a:ext cx="5256360" cy="24588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219640" y="5373720"/>
            <a:ext cx="3745080" cy="1224000"/>
          </a:xfrm>
          <a:prstGeom prst="foldedCorner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Higher trigger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( RI decay, γray fro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urrounding rock etc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30560" y="404640"/>
            <a:ext cx="784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Book Antiqua"/>
                <a:ea typeface="Arial Unicode MS"/>
              </a:rPr>
              <a:t>2, Motivation for new online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520" y="1628640"/>
            <a:ext cx="76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7419"/>
                </a:solidFill>
                <a:latin typeface="Book Antiqua"/>
                <a:ea typeface="Arial Unicode MS"/>
              </a:rPr>
              <a:t>a,  Lower</a:t>
            </a:r>
            <a:r>
              <a:rPr b="0" lang="ja-JP" sz="2800" spc="-1" strike="noStrike">
                <a:solidFill>
                  <a:srgbClr val="0a7419"/>
                </a:solidFill>
                <a:latin typeface="Book Antiqua"/>
                <a:ea typeface="Arial Unicode MS"/>
              </a:rPr>
              <a:t> </a:t>
            </a:r>
            <a:r>
              <a:rPr b="0" lang="en-US" sz="2800" spc="-1" strike="noStrike">
                <a:solidFill>
                  <a:srgbClr val="0a7419"/>
                </a:solidFill>
                <a:latin typeface="Book Antiqua"/>
                <a:ea typeface="Arial Unicode MS"/>
              </a:rPr>
              <a:t>energy threshold for solar neutr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00000" y="20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4440" y="1136520"/>
            <a:ext cx="472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hysics in SK with new system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55640" y="2276640"/>
            <a:ext cx="756144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* Determination of mixing angle θ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ass difference Δ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* Observe energy dependence of  neutrino oscil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219640" y="3860640"/>
            <a:ext cx="3745080" cy="935280"/>
          </a:xfrm>
          <a:prstGeom prst="foldedCorner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Lower threshol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or event trig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77080" y="4941720"/>
            <a:ext cx="287280" cy="358920"/>
          </a:xfrm>
          <a:prstGeom prst="downArrow">
            <a:avLst>
              <a:gd name="adj1" fmla="val 50000"/>
              <a:gd name="adj2" fmla="val 31234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7560" y="3573360"/>
            <a:ext cx="61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a7419"/>
                </a:solidFill>
                <a:latin typeface="Book Antiqua"/>
                <a:ea typeface="Arial Unicode MS"/>
              </a:rPr>
              <a:t>c, Supernova neutrino bur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-137520" y="476280"/>
            <a:ext cx="609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a7419"/>
                </a:solidFill>
                <a:latin typeface="Book Antiqua"/>
                <a:ea typeface="Arial Unicode MS"/>
              </a:rPr>
              <a:t>b, Relic Supernova neutri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-56160" y="1989000"/>
            <a:ext cx="94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200μs-delayed gamma ray can be used for reducing backg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690560" y="2852640"/>
            <a:ext cx="7129440" cy="647640"/>
            <a:chOff x="1690560" y="2852640"/>
            <a:chExt cx="7129440" cy="647640"/>
          </a:xfrm>
        </p:grpSpPr>
        <p:sp>
          <p:nvSpPr>
            <p:cNvPr id="182" name=""/>
            <p:cNvSpPr/>
            <p:nvPr/>
          </p:nvSpPr>
          <p:spPr>
            <a:xfrm>
              <a:off x="2843280" y="2852640"/>
              <a:ext cx="5976720" cy="647640"/>
            </a:xfrm>
            <a:prstGeom prst="foldedCorner">
              <a:avLst>
                <a:gd name="adj" fmla="val 125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779920" y="2925720"/>
              <a:ext cx="585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  <a:ea typeface="Arial Unicode MS"/>
                </a:rPr>
                <a:t>Long time for trigger window is need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690560" y="3139920"/>
              <a:ext cx="93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94680" y="1125360"/>
            <a:ext cx="57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Arial Unicode MS"/>
              </a:rPr>
              <a:t>Background neutrino from superno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Arial Unicode MS"/>
              </a:rPr>
              <a:t>which ever occurred in the unive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6080400" y="476280"/>
            <a:ext cx="2654640" cy="1386720"/>
            <a:chOff x="6080400" y="476280"/>
            <a:chExt cx="2654640" cy="1386720"/>
          </a:xfrm>
        </p:grpSpPr>
        <p:sp>
          <p:nvSpPr>
            <p:cNvPr id="187" name=""/>
            <p:cNvSpPr/>
            <p:nvPr/>
          </p:nvSpPr>
          <p:spPr>
            <a:xfrm>
              <a:off x="6156000" y="476280"/>
              <a:ext cx="64728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803640" y="1052640"/>
              <a:ext cx="144360" cy="1443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019640" y="1123920"/>
              <a:ext cx="50292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522920" y="1123920"/>
              <a:ext cx="144000" cy="1447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956360" y="908280"/>
              <a:ext cx="144000" cy="1443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678440" y="990720"/>
              <a:ext cx="215640" cy="146160"/>
            </a:xfrm>
            <a:custGeom>
              <a:avLst/>
              <a:gdLst/>
              <a:ahLst/>
              <a:rect l="l" t="t" r="r" b="b"/>
              <a:pathLst>
                <a:path w="136" h="92">
                  <a:moveTo>
                    <a:pt x="4" y="92"/>
                  </a:moveTo>
                  <a:cubicBezTo>
                    <a:pt x="7" y="48"/>
                    <a:pt x="0" y="48"/>
                    <a:pt x="37" y="53"/>
                  </a:cubicBezTo>
                  <a:cubicBezTo>
                    <a:pt x="82" y="48"/>
                    <a:pt x="60" y="50"/>
                    <a:pt x="73" y="14"/>
                  </a:cubicBezTo>
                  <a:cubicBezTo>
                    <a:pt x="78" y="0"/>
                    <a:pt x="120" y="5"/>
                    <a:pt x="136" y="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172360" y="1123920"/>
              <a:ext cx="142200" cy="1447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459640" y="908280"/>
              <a:ext cx="144000" cy="1443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386560" y="981000"/>
              <a:ext cx="144000" cy="1447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381880" y="1170000"/>
              <a:ext cx="272520" cy="428760"/>
            </a:xfrm>
            <a:custGeom>
              <a:avLst/>
              <a:gdLst/>
              <a:ahLst/>
              <a:rect l="l" t="t" r="r" b="b"/>
              <a:pathLst>
                <a:path w="172" h="270">
                  <a:moveTo>
                    <a:pt x="71" y="0"/>
                  </a:moveTo>
                  <a:cubicBezTo>
                    <a:pt x="61" y="3"/>
                    <a:pt x="44" y="15"/>
                    <a:pt x="44" y="15"/>
                  </a:cubicBezTo>
                  <a:cubicBezTo>
                    <a:pt x="0" y="81"/>
                    <a:pt x="82" y="73"/>
                    <a:pt x="119" y="75"/>
                  </a:cubicBezTo>
                  <a:cubicBezTo>
                    <a:pt x="140" y="82"/>
                    <a:pt x="143" y="112"/>
                    <a:pt x="125" y="126"/>
                  </a:cubicBezTo>
                  <a:cubicBezTo>
                    <a:pt x="116" y="133"/>
                    <a:pt x="94" y="135"/>
                    <a:pt x="83" y="138"/>
                  </a:cubicBezTo>
                  <a:cubicBezTo>
                    <a:pt x="77" y="142"/>
                    <a:pt x="71" y="146"/>
                    <a:pt x="65" y="150"/>
                  </a:cubicBezTo>
                  <a:cubicBezTo>
                    <a:pt x="62" y="152"/>
                    <a:pt x="56" y="156"/>
                    <a:pt x="56" y="156"/>
                  </a:cubicBezTo>
                  <a:cubicBezTo>
                    <a:pt x="39" y="206"/>
                    <a:pt x="124" y="194"/>
                    <a:pt x="146" y="195"/>
                  </a:cubicBezTo>
                  <a:cubicBezTo>
                    <a:pt x="172" y="234"/>
                    <a:pt x="137" y="231"/>
                    <a:pt x="113" y="234"/>
                  </a:cubicBezTo>
                  <a:cubicBezTo>
                    <a:pt x="107" y="252"/>
                    <a:pt x="110" y="240"/>
                    <a:pt x="110" y="27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438760" y="1555920"/>
              <a:ext cx="259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γ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875280" y="126864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41000" y="1484280"/>
              <a:ext cx="33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080400" y="547920"/>
              <a:ext cx="343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ν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733800" y="692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381440" y="763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884720" y="476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389800" y="5479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968040" y="4724280"/>
            <a:ext cx="385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, they are very rare ev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8640" y="4292640"/>
            <a:ext cx="709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ant information for constructing supernova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0760" y="5516640"/>
            <a:ext cx="583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must not miss SN events when it happ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1692360" y="6019920"/>
            <a:ext cx="7129440" cy="647640"/>
            <a:chOff x="1692360" y="6019920"/>
            <a:chExt cx="7129440" cy="647640"/>
          </a:xfrm>
        </p:grpSpPr>
        <p:sp>
          <p:nvSpPr>
            <p:cNvPr id="209" name=""/>
            <p:cNvSpPr/>
            <p:nvPr/>
          </p:nvSpPr>
          <p:spPr>
            <a:xfrm>
              <a:off x="2844720" y="6019920"/>
              <a:ext cx="5977080" cy="647640"/>
            </a:xfrm>
            <a:prstGeom prst="foldedCorner">
              <a:avLst>
                <a:gd name="adj" fmla="val 125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475440" y="6093000"/>
              <a:ext cx="501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  <a:ea typeface="Arial Unicode MS"/>
                </a:rPr>
                <a:t>High availability system is need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692360" y="6308640"/>
              <a:ext cx="93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6156360" y="620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20000" y="249228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.2MeV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rot="16200000">
            <a:off x="2050560" y="621360"/>
            <a:ext cx="144720" cy="3600360"/>
          </a:xfrm>
          <a:custGeom>
            <a:avLst/>
            <a:gdLst>
              <a:gd name="textAreaLeft" fmla="*/ 360 w 144720"/>
              <a:gd name="textAreaRight" fmla="*/ 52560 w 144720"/>
              <a:gd name="textAreaTop" fmla="*/ 93600 h 3600360"/>
              <a:gd name="textAreaBottom" fmla="*/ 3506760 h 36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657"/>
                </a:lnTo>
                <a:cubicBezTo>
                  <a:pt x="10800" y="9557"/>
                  <a:pt x="16200" y="10457"/>
                  <a:pt x="21600" y="10457"/>
                </a:cubicBezTo>
                <a:cubicBezTo>
                  <a:pt x="16200" y="10457"/>
                  <a:pt x="10800" y="11357"/>
                  <a:pt x="10800" y="1225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53440" y="620640"/>
            <a:ext cx="602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w online system should be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60080" y="4292640"/>
            <a:ext cx="5484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* High availability syste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for the observation of supern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09960" y="1557360"/>
            <a:ext cx="849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* Capable of high rate of trigger (not synchronou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for detection of faint sig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06840" y="2565360"/>
            <a:ext cx="718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ow energy solar neutrino, SN, mu-decay, n-captured γ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04600" y="3233880"/>
            <a:ext cx="54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ware trigger-less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ding all the hits from 13000PM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5435640" y="5229360"/>
            <a:ext cx="431640" cy="57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0" y="5229360"/>
            <a:ext cx="431640" cy="57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47640" y="5229360"/>
            <a:ext cx="432000" cy="57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411280" y="5229360"/>
            <a:ext cx="432000" cy="57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5040" y="623880"/>
            <a:ext cx="58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Book Antiqua"/>
                <a:ea typeface="Arial Unicode MS"/>
              </a:rPr>
              <a:t>3, Record Every Hit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02480" y="1415880"/>
            <a:ext cx="25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urren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0920" y="2060640"/>
            <a:ext cx="423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umber of hi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00ns 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xceeds threshol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95280" y="2060640"/>
            <a:ext cx="388944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284720" y="227664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796000" y="206064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vent Trigg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724360" y="2060640"/>
            <a:ext cx="216072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57120" y="378936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ew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32000" y="3573360"/>
            <a:ext cx="532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908000" y="2997360"/>
            <a:ext cx="432000" cy="576000"/>
            <a:chOff x="1908000" y="2997360"/>
            <a:chExt cx="432000" cy="576000"/>
          </a:xfrm>
        </p:grpSpPr>
        <p:sp>
          <p:nvSpPr>
            <p:cNvPr id="234" name=""/>
            <p:cNvSpPr/>
            <p:nvPr/>
          </p:nvSpPr>
          <p:spPr>
            <a:xfrm>
              <a:off x="1908000" y="2997360"/>
              <a:ext cx="432000" cy="5760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979640" y="314172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50920" y="314172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124000" y="3068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195640" y="328464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2700360" y="3284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547640" y="3284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643280" y="3284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16360" y="321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403280" y="5805360"/>
            <a:ext cx="532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79640" y="5229360"/>
            <a:ext cx="431640" cy="57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276720" y="5229360"/>
            <a:ext cx="431640" cy="57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05092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12256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195640" y="5300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66920" y="5516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49092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56220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635280" y="5300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706920" y="5516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771640" y="5516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19280" y="5516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714920" y="5516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788000" y="544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580000" y="5300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43280" y="5229360"/>
            <a:ext cx="431640" cy="57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708360" y="5229360"/>
            <a:ext cx="432000" cy="57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140360" y="5229360"/>
            <a:ext cx="431640" cy="57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003640" y="5229360"/>
            <a:ext cx="432000" cy="57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66280" y="4365720"/>
            <a:ext cx="76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 event trigger -&gt;  Use periodic trigger from pul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55640" y="4437000"/>
            <a:ext cx="727236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042920" y="638172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308320" y="6184800"/>
            <a:ext cx="66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specified events by intelligent software trig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725800" y="1484280"/>
            <a:ext cx="238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13000 PM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924360" y="2997360"/>
            <a:ext cx="431640" cy="576000"/>
            <a:chOff x="3924360" y="2997360"/>
            <a:chExt cx="431640" cy="576000"/>
          </a:xfrm>
        </p:grpSpPr>
        <p:sp>
          <p:nvSpPr>
            <p:cNvPr id="269" name=""/>
            <p:cNvSpPr/>
            <p:nvPr/>
          </p:nvSpPr>
          <p:spPr>
            <a:xfrm>
              <a:off x="3924360" y="2997360"/>
              <a:ext cx="431640" cy="5760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95640" y="314172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066920" y="314172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140000" y="3068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211640" y="328464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5508720" y="2997360"/>
            <a:ext cx="431640" cy="576000"/>
            <a:chOff x="5508720" y="2997360"/>
            <a:chExt cx="431640" cy="576000"/>
          </a:xfrm>
        </p:grpSpPr>
        <p:sp>
          <p:nvSpPr>
            <p:cNvPr id="275" name=""/>
            <p:cNvSpPr/>
            <p:nvPr/>
          </p:nvSpPr>
          <p:spPr>
            <a:xfrm>
              <a:off x="5508720" y="3068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5508720" y="2997360"/>
              <a:ext cx="431640" cy="576000"/>
              <a:chOff x="5508720" y="2997360"/>
              <a:chExt cx="431640" cy="576000"/>
            </a:xfrm>
          </p:grpSpPr>
          <p:sp>
            <p:nvSpPr>
              <p:cNvPr id="277" name=""/>
              <p:cNvSpPr/>
              <p:nvPr/>
            </p:nvSpPr>
            <p:spPr>
              <a:xfrm>
                <a:off x="5508720" y="2997360"/>
                <a:ext cx="431640" cy="57600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580000" y="314172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651280" y="314172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724360" y="3068640"/>
                <a:ext cx="0" cy="50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796000" y="3284640"/>
                <a:ext cx="0" cy="28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2" name=""/>
          <p:cNvGrpSpPr/>
          <p:nvPr/>
        </p:nvGrpSpPr>
        <p:grpSpPr>
          <a:xfrm>
            <a:off x="1835280" y="2997360"/>
            <a:ext cx="3816360" cy="576000"/>
            <a:chOff x="1835280" y="2997360"/>
            <a:chExt cx="3816360" cy="576000"/>
          </a:xfrm>
        </p:grpSpPr>
        <p:sp>
          <p:nvSpPr>
            <p:cNvPr id="283" name=""/>
            <p:cNvSpPr/>
            <p:nvPr/>
          </p:nvSpPr>
          <p:spPr>
            <a:xfrm>
              <a:off x="3851280" y="2997360"/>
              <a:ext cx="432000" cy="5760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922920" y="3141720"/>
              <a:ext cx="0" cy="43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994200" y="3141720"/>
              <a:ext cx="0" cy="43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067280" y="3068640"/>
              <a:ext cx="0" cy="50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138560" y="328428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203640" y="328428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050920" y="328428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146560" y="328428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219640" y="3213000"/>
              <a:ext cx="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2914560" y="2997360"/>
              <a:ext cx="432000" cy="576000"/>
              <a:chOff x="2914560" y="2997360"/>
              <a:chExt cx="432000" cy="576000"/>
            </a:xfrm>
          </p:grpSpPr>
          <p:sp>
            <p:nvSpPr>
              <p:cNvPr id="293" name=""/>
              <p:cNvSpPr/>
              <p:nvPr/>
            </p:nvSpPr>
            <p:spPr>
              <a:xfrm>
                <a:off x="2914560" y="2997360"/>
                <a:ext cx="432000" cy="5760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986200" y="314172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057480" y="314172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130560" y="3068640"/>
                <a:ext cx="0" cy="50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202200" y="3284640"/>
                <a:ext cx="0" cy="28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3490920" y="2997360"/>
              <a:ext cx="432000" cy="576000"/>
              <a:chOff x="3490920" y="2997360"/>
              <a:chExt cx="432000" cy="576000"/>
            </a:xfrm>
          </p:grpSpPr>
          <p:sp>
            <p:nvSpPr>
              <p:cNvPr id="299" name=""/>
              <p:cNvSpPr/>
              <p:nvPr/>
            </p:nvSpPr>
            <p:spPr>
              <a:xfrm>
                <a:off x="3490920" y="2997360"/>
                <a:ext cx="432000" cy="5760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562560" y="314172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633840" y="314172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06920" y="3068640"/>
                <a:ext cx="0" cy="50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778560" y="3284640"/>
                <a:ext cx="0" cy="28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5219640" y="2997360"/>
              <a:ext cx="432000" cy="576000"/>
              <a:chOff x="5219640" y="2997360"/>
              <a:chExt cx="432000" cy="576000"/>
            </a:xfrm>
          </p:grpSpPr>
          <p:sp>
            <p:nvSpPr>
              <p:cNvPr id="305" name=""/>
              <p:cNvSpPr/>
              <p:nvPr/>
            </p:nvSpPr>
            <p:spPr>
              <a:xfrm>
                <a:off x="5219640" y="2997360"/>
                <a:ext cx="432000" cy="5760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291280" y="314172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362560" y="314172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435640" y="3068640"/>
                <a:ext cx="0" cy="50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507280" y="3284640"/>
                <a:ext cx="0" cy="28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1835280" y="2997360"/>
              <a:ext cx="431640" cy="576000"/>
              <a:chOff x="1835280" y="2997360"/>
              <a:chExt cx="431640" cy="576000"/>
            </a:xfrm>
          </p:grpSpPr>
          <p:sp>
            <p:nvSpPr>
              <p:cNvPr id="311" name=""/>
              <p:cNvSpPr/>
              <p:nvPr/>
            </p:nvSpPr>
            <p:spPr>
              <a:xfrm>
                <a:off x="1835280" y="2997360"/>
                <a:ext cx="431640" cy="5760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906560" y="314172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977840" y="314172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050920" y="3068640"/>
                <a:ext cx="0" cy="50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122560" y="3284640"/>
                <a:ext cx="0" cy="28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4498920" y="2997360"/>
              <a:ext cx="431640" cy="576000"/>
              <a:chOff x="4498920" y="2997360"/>
              <a:chExt cx="431640" cy="576000"/>
            </a:xfrm>
          </p:grpSpPr>
          <p:sp>
            <p:nvSpPr>
              <p:cNvPr id="317" name=""/>
              <p:cNvSpPr/>
              <p:nvPr/>
            </p:nvSpPr>
            <p:spPr>
              <a:xfrm>
                <a:off x="4498920" y="3068640"/>
                <a:ext cx="0" cy="50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8" name=""/>
              <p:cNvGrpSpPr/>
              <p:nvPr/>
            </p:nvGrpSpPr>
            <p:grpSpPr>
              <a:xfrm>
                <a:off x="4498920" y="2997360"/>
                <a:ext cx="431640" cy="576000"/>
                <a:chOff x="4498920" y="2997360"/>
                <a:chExt cx="431640" cy="57600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4498920" y="2997360"/>
                  <a:ext cx="431640" cy="576000"/>
                </a:xfrm>
                <a:prstGeom prst="rect">
                  <a:avLst/>
                </a:prstGeom>
                <a:solidFill>
                  <a:srgbClr val="00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4570200" y="3141720"/>
                  <a:ext cx="0" cy="43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4641480" y="3141720"/>
                  <a:ext cx="0" cy="43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4714560" y="3068640"/>
                  <a:ext cx="0" cy="504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4786200" y="3284640"/>
                  <a:ext cx="0" cy="288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4" name=""/>
            <p:cNvGrpSpPr/>
            <p:nvPr/>
          </p:nvGrpSpPr>
          <p:grpSpPr>
            <a:xfrm>
              <a:off x="2338560" y="2997360"/>
              <a:ext cx="431640" cy="576000"/>
              <a:chOff x="2338560" y="2997360"/>
              <a:chExt cx="431640" cy="576000"/>
            </a:xfrm>
          </p:grpSpPr>
          <p:sp>
            <p:nvSpPr>
              <p:cNvPr id="325" name=""/>
              <p:cNvSpPr/>
              <p:nvPr/>
            </p:nvSpPr>
            <p:spPr>
              <a:xfrm>
                <a:off x="2338560" y="3068640"/>
                <a:ext cx="0" cy="50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6" name=""/>
              <p:cNvGrpSpPr/>
              <p:nvPr/>
            </p:nvGrpSpPr>
            <p:grpSpPr>
              <a:xfrm>
                <a:off x="2338560" y="2997360"/>
                <a:ext cx="431640" cy="576000"/>
                <a:chOff x="2338560" y="2997360"/>
                <a:chExt cx="431640" cy="57600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2338560" y="2997360"/>
                  <a:ext cx="431640" cy="576000"/>
                </a:xfrm>
                <a:prstGeom prst="rect">
                  <a:avLst/>
                </a:prstGeom>
                <a:solidFill>
                  <a:srgbClr val="00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2409840" y="3141720"/>
                  <a:ext cx="0" cy="43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2481120" y="3141720"/>
                  <a:ext cx="0" cy="43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2554200" y="3068640"/>
                  <a:ext cx="0" cy="504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2625840" y="3284640"/>
                  <a:ext cx="0" cy="288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32" name=""/>
          <p:cNvSpPr/>
          <p:nvPr/>
        </p:nvSpPr>
        <p:spPr>
          <a:xfrm>
            <a:off x="6711480" y="265752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ff"/>
                </a:solidFill>
                <a:uFillTx/>
                <a:latin typeface="Times New Roman"/>
              </a:rPr>
              <a:t>Higher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2843280" y="2997360"/>
            <a:ext cx="2305080" cy="576000"/>
            <a:chOff x="2843280" y="2997360"/>
            <a:chExt cx="2305080" cy="576000"/>
          </a:xfrm>
        </p:grpSpPr>
        <p:sp>
          <p:nvSpPr>
            <p:cNvPr id="334" name=""/>
            <p:cNvSpPr/>
            <p:nvPr/>
          </p:nvSpPr>
          <p:spPr>
            <a:xfrm>
              <a:off x="2843280" y="2997360"/>
              <a:ext cx="2305080" cy="5760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914560" y="3141720"/>
              <a:ext cx="7920" cy="43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86200" y="3141720"/>
              <a:ext cx="7920" cy="43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059280" y="3068640"/>
              <a:ext cx="7920" cy="50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130560" y="3284280"/>
              <a:ext cx="792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932360" y="328428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859280" y="3213000"/>
              <a:ext cx="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6642000" y="3160800"/>
            <a:ext cx="21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Longer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-14400" y="5805360"/>
            <a:ext cx="79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hit data contains timing information from periodic trig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286160" y="658332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/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4572000" y="5734080"/>
            <a:ext cx="4321080" cy="93492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662200" y="5877000"/>
            <a:ext cx="503280" cy="431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662200" y="4508640"/>
            <a:ext cx="503280" cy="431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662200" y="3860640"/>
            <a:ext cx="503280" cy="4320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662200" y="3213000"/>
            <a:ext cx="503280" cy="4320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662200" y="2492280"/>
            <a:ext cx="503280" cy="4320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662200" y="1844640"/>
            <a:ext cx="503280" cy="4320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158920" y="5877000"/>
            <a:ext cx="503280" cy="431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58920" y="4508640"/>
            <a:ext cx="503280" cy="431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58920" y="3860640"/>
            <a:ext cx="503280" cy="432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158920" y="3213000"/>
            <a:ext cx="503280" cy="432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158920" y="2492280"/>
            <a:ext cx="503280" cy="432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158920" y="1844640"/>
            <a:ext cx="503280" cy="432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654200" y="5877000"/>
            <a:ext cx="503280" cy="43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654200" y="4508640"/>
            <a:ext cx="503280" cy="43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654200" y="3860640"/>
            <a:ext cx="503280" cy="43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54200" y="3213000"/>
            <a:ext cx="503280" cy="43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654200" y="2492280"/>
            <a:ext cx="503280" cy="43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654200" y="1844640"/>
            <a:ext cx="503280" cy="43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150920" y="5877000"/>
            <a:ext cx="503280" cy="431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150920" y="4508640"/>
            <a:ext cx="503280" cy="431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150920" y="3860640"/>
            <a:ext cx="503280" cy="43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150920" y="3213000"/>
            <a:ext cx="503280" cy="43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150920" y="2492280"/>
            <a:ext cx="503280" cy="43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150920" y="1844640"/>
            <a:ext cx="503280" cy="43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11280" y="40464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Book Antiqua"/>
                <a:ea typeface="Arial Unicode MS"/>
              </a:rPr>
              <a:t>Data processing in online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006560" y="227808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006560" y="292572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006560" y="364500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006560" y="429408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006560" y="494352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006560" y="631188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511280" y="1844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511280" y="3213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798560" y="3860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366920" y="3860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727280" y="335592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590920" y="26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943280" y="2563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582560" y="4724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150920" y="587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943280" y="1844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95128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446200" y="335592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303640" y="3860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014560" y="587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446200" y="19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022560" y="2492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022560" y="4005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662200" y="4508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879640" y="60930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582560" y="6021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087640" y="4508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519280" y="6021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51280" y="3213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222200" y="4005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158920" y="3213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166920" y="407664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095640" y="4653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438200" y="4508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662200" y="1844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016360" y="5013360"/>
            <a:ext cx="225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470560" y="2349360"/>
            <a:ext cx="1152360" cy="3095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311640" y="2058840"/>
            <a:ext cx="140472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382920" y="2706840"/>
            <a:ext cx="1295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382920" y="3427560"/>
            <a:ext cx="126036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3382920" y="3860640"/>
            <a:ext cx="1260360" cy="21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3454560" y="4292280"/>
            <a:ext cx="1188720" cy="43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3382920" y="5227200"/>
            <a:ext cx="12952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822920" y="2852640"/>
            <a:ext cx="503280" cy="71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822920" y="2924280"/>
            <a:ext cx="503280" cy="71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22920" y="2997360"/>
            <a:ext cx="503280" cy="71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822920" y="3068640"/>
            <a:ext cx="503280" cy="71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822920" y="3139920"/>
            <a:ext cx="503280" cy="71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822920" y="3355920"/>
            <a:ext cx="503280" cy="7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822920" y="3429000"/>
            <a:ext cx="503280" cy="71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822920" y="3500280"/>
            <a:ext cx="503280" cy="71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822920" y="3716280"/>
            <a:ext cx="503280" cy="71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822920" y="3787920"/>
            <a:ext cx="503280" cy="71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822920" y="3859200"/>
            <a:ext cx="503280" cy="71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822920" y="3930480"/>
            <a:ext cx="503280" cy="71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822920" y="4221000"/>
            <a:ext cx="503280" cy="71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822920" y="4292640"/>
            <a:ext cx="503280" cy="71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822920" y="4363920"/>
            <a:ext cx="503280" cy="71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822920" y="4148280"/>
            <a:ext cx="503280" cy="71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822920" y="5154480"/>
            <a:ext cx="503280" cy="71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822920" y="5083200"/>
            <a:ext cx="503280" cy="71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822920" y="5226120"/>
            <a:ext cx="503280" cy="712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822920" y="5010120"/>
            <a:ext cx="503280" cy="71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285840" y="1844640"/>
            <a:ext cx="504360" cy="372960"/>
            <a:chOff x="285840" y="1844640"/>
            <a:chExt cx="504360" cy="372960"/>
          </a:xfrm>
        </p:grpSpPr>
        <p:sp>
          <p:nvSpPr>
            <p:cNvPr id="434" name=""/>
            <p:cNvSpPr/>
            <p:nvPr/>
          </p:nvSpPr>
          <p:spPr>
            <a:xfrm>
              <a:off x="285840" y="1844640"/>
              <a:ext cx="189000" cy="3729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74840" y="1951560"/>
              <a:ext cx="315360" cy="159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285840" y="2492280"/>
            <a:ext cx="504360" cy="373320"/>
            <a:chOff x="285840" y="2492280"/>
            <a:chExt cx="504360" cy="373320"/>
          </a:xfrm>
        </p:grpSpPr>
        <p:sp>
          <p:nvSpPr>
            <p:cNvPr id="437" name=""/>
            <p:cNvSpPr/>
            <p:nvPr/>
          </p:nvSpPr>
          <p:spPr>
            <a:xfrm>
              <a:off x="285840" y="2492280"/>
              <a:ext cx="189000" cy="3733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74840" y="2599200"/>
              <a:ext cx="315360" cy="160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285840" y="3213000"/>
            <a:ext cx="504360" cy="373320"/>
            <a:chOff x="285840" y="3213000"/>
            <a:chExt cx="504360" cy="373320"/>
          </a:xfrm>
        </p:grpSpPr>
        <p:sp>
          <p:nvSpPr>
            <p:cNvPr id="440" name=""/>
            <p:cNvSpPr/>
            <p:nvPr/>
          </p:nvSpPr>
          <p:spPr>
            <a:xfrm>
              <a:off x="285840" y="3213000"/>
              <a:ext cx="189000" cy="3733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74840" y="3319920"/>
              <a:ext cx="315360" cy="160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285840" y="3860640"/>
            <a:ext cx="504360" cy="373320"/>
            <a:chOff x="285840" y="3860640"/>
            <a:chExt cx="504360" cy="373320"/>
          </a:xfrm>
        </p:grpSpPr>
        <p:sp>
          <p:nvSpPr>
            <p:cNvPr id="443" name=""/>
            <p:cNvSpPr/>
            <p:nvPr/>
          </p:nvSpPr>
          <p:spPr>
            <a:xfrm>
              <a:off x="285840" y="3860640"/>
              <a:ext cx="189000" cy="3733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74840" y="3967560"/>
              <a:ext cx="315360" cy="160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285840" y="4508640"/>
            <a:ext cx="504360" cy="372960"/>
            <a:chOff x="285840" y="4508640"/>
            <a:chExt cx="504360" cy="372960"/>
          </a:xfrm>
        </p:grpSpPr>
        <p:sp>
          <p:nvSpPr>
            <p:cNvPr id="446" name=""/>
            <p:cNvSpPr/>
            <p:nvPr/>
          </p:nvSpPr>
          <p:spPr>
            <a:xfrm>
              <a:off x="285840" y="4508640"/>
              <a:ext cx="189000" cy="3729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74840" y="4615560"/>
              <a:ext cx="315360" cy="159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285840" y="5877000"/>
            <a:ext cx="504360" cy="372960"/>
            <a:chOff x="285840" y="5877000"/>
            <a:chExt cx="504360" cy="372960"/>
          </a:xfrm>
        </p:grpSpPr>
        <p:sp>
          <p:nvSpPr>
            <p:cNvPr id="449" name=""/>
            <p:cNvSpPr/>
            <p:nvPr/>
          </p:nvSpPr>
          <p:spPr>
            <a:xfrm>
              <a:off x="285840" y="5877000"/>
              <a:ext cx="189000" cy="3729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74840" y="5983920"/>
              <a:ext cx="315360" cy="159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432000" y="5013360"/>
            <a:ext cx="225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0200" y="6411960"/>
            <a:ext cx="16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13000PM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967280" y="2058840"/>
            <a:ext cx="216000" cy="576360"/>
          </a:xfrm>
          <a:prstGeom prst="downArrow">
            <a:avLst>
              <a:gd name="adj1" fmla="val 50000"/>
              <a:gd name="adj2" fmla="val 66708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633200" y="981000"/>
            <a:ext cx="43214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ata p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ncluding tim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Book Antiqua"/>
              </a:rPr>
              <a:t>(not in time ord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149480" y="1628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654200" y="1628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662200" y="1628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158920" y="1628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803880" y="1136520"/>
            <a:ext cx="24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eriodic trig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69080" y="4290840"/>
            <a:ext cx="225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659840" y="5805360"/>
            <a:ext cx="433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erge and sort in time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ll hit from PM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6765840" y="2997360"/>
            <a:ext cx="2378160" cy="434880"/>
            <a:chOff x="6765840" y="2997360"/>
            <a:chExt cx="2378160" cy="434880"/>
          </a:xfrm>
        </p:grpSpPr>
        <p:sp>
          <p:nvSpPr>
            <p:cNvPr id="463" name=""/>
            <p:cNvSpPr/>
            <p:nvPr/>
          </p:nvSpPr>
          <p:spPr>
            <a:xfrm>
              <a:off x="8421480" y="2997360"/>
              <a:ext cx="503280" cy="4320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918200" y="2997360"/>
              <a:ext cx="503280" cy="4320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413480" y="2997360"/>
              <a:ext cx="50328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910200" y="2997360"/>
              <a:ext cx="503280" cy="432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6765840" y="2997360"/>
              <a:ext cx="2378160" cy="434880"/>
              <a:chOff x="6765840" y="2997360"/>
              <a:chExt cx="2378160" cy="434880"/>
            </a:xfrm>
          </p:grpSpPr>
          <p:sp>
            <p:nvSpPr>
              <p:cNvPr id="468" name=""/>
              <p:cNvSpPr/>
              <p:nvPr/>
            </p:nvSpPr>
            <p:spPr>
              <a:xfrm>
                <a:off x="6767640" y="3430800"/>
                <a:ext cx="237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272360" y="299736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704000" y="299736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8712000" y="3213360"/>
                <a:ext cx="0" cy="21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207280" y="3068640"/>
                <a:ext cx="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8423280" y="299736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765840" y="3430800"/>
                <a:ext cx="2376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8350200" y="3141720"/>
                <a:ext cx="0" cy="2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702560" y="3068640"/>
                <a:ext cx="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8782200" y="299736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767640" y="3429000"/>
                <a:ext cx="237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272360" y="299736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488360" y="3140280"/>
                <a:ext cx="0" cy="28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8207280" y="3140280"/>
                <a:ext cx="0" cy="28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8712000" y="299736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7920000" y="299736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767640" y="3432240"/>
                <a:ext cx="237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7343640" y="3213360"/>
                <a:ext cx="0" cy="21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8423280" y="299736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848720" y="299736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8856720" y="3141720"/>
                <a:ext cx="0" cy="2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7199280" y="299736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767640" y="3432240"/>
                <a:ext cx="237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912000" y="299736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775640" y="299736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8640720" y="3213360"/>
                <a:ext cx="0" cy="21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343640" y="3141720"/>
                <a:ext cx="0" cy="2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8280360" y="3141720"/>
                <a:ext cx="0" cy="2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6" name=""/>
            <p:cNvSpPr/>
            <p:nvPr/>
          </p:nvSpPr>
          <p:spPr>
            <a:xfrm>
              <a:off x="6910200" y="29973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773840" y="29973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638920" y="32133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342200" y="314172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278560" y="314172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6804000" y="3933720"/>
            <a:ext cx="432000" cy="289080"/>
          </a:xfrm>
          <a:prstGeom prst="rightArrow">
            <a:avLst>
              <a:gd name="adj1" fmla="val 50000"/>
              <a:gd name="adj2" fmla="val 3736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093080" y="2997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020000" y="3141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596360" y="2997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8028000" y="2997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8244000" y="3141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8532720" y="3213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7451640" y="3645000"/>
            <a:ext cx="503280" cy="1439640"/>
            <a:chOff x="7451640" y="3645000"/>
            <a:chExt cx="503280" cy="1439640"/>
          </a:xfrm>
        </p:grpSpPr>
        <p:sp>
          <p:nvSpPr>
            <p:cNvPr id="509" name=""/>
            <p:cNvSpPr/>
            <p:nvPr/>
          </p:nvSpPr>
          <p:spPr>
            <a:xfrm>
              <a:off x="7451640" y="3789360"/>
              <a:ext cx="503280" cy="71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451640" y="3862440"/>
              <a:ext cx="503280" cy="71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451640" y="3933720"/>
              <a:ext cx="503280" cy="71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451640" y="4724280"/>
              <a:ext cx="503280" cy="716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451640" y="4075200"/>
              <a:ext cx="503280" cy="71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451640" y="4363920"/>
              <a:ext cx="503280" cy="716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451640" y="4797360"/>
              <a:ext cx="503280" cy="716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451640" y="4219560"/>
              <a:ext cx="503280" cy="71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451640" y="4148280"/>
              <a:ext cx="503280" cy="71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451640" y="4437000"/>
              <a:ext cx="503280" cy="716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451640" y="4869000"/>
              <a:ext cx="503280" cy="712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451640" y="4940280"/>
              <a:ext cx="503280" cy="716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451640" y="4508640"/>
              <a:ext cx="503280" cy="71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451640" y="4290840"/>
              <a:ext cx="503280" cy="7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451640" y="5013360"/>
              <a:ext cx="503280" cy="712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451640" y="4581360"/>
              <a:ext cx="503280" cy="716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451640" y="4653000"/>
              <a:ext cx="503280" cy="71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451640" y="4005360"/>
              <a:ext cx="503280" cy="71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451640" y="3716280"/>
              <a:ext cx="503280" cy="71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451640" y="3645000"/>
              <a:ext cx="503280" cy="71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5502240" y="4941720"/>
            <a:ext cx="1800360" cy="863640"/>
          </a:xfrm>
          <a:prstGeom prst="foldedCorner">
            <a:avLst>
              <a:gd name="adj" fmla="val 12500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700440" y="5013360"/>
            <a:ext cx="1152720" cy="863640"/>
          </a:xfrm>
          <a:prstGeom prst="foldedCorner">
            <a:avLst>
              <a:gd name="adj" fmla="val 12500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908000" y="5013360"/>
            <a:ext cx="1152720" cy="863640"/>
          </a:xfrm>
          <a:prstGeom prst="foldedCorner">
            <a:avLst>
              <a:gd name="adj" fmla="val 12500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04800" y="5013360"/>
            <a:ext cx="1152720" cy="863640"/>
          </a:xfrm>
          <a:prstGeom prst="foldedCorner">
            <a:avLst>
              <a:gd name="adj" fmla="val 12500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11280" y="40464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Book Antiqua"/>
                <a:ea typeface="Arial Unicode MS"/>
              </a:rPr>
              <a:t>Schematic view of new online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82280" y="6093000"/>
            <a:ext cx="773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EPC, MergerPC : Xeon 3GHz Dual Core Dual CPU  Memory 2G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1116000" y="1500120"/>
            <a:ext cx="289080" cy="214560"/>
            <a:chOff x="1116000" y="1500120"/>
            <a:chExt cx="289080" cy="214560"/>
          </a:xfrm>
        </p:grpSpPr>
        <p:sp>
          <p:nvSpPr>
            <p:cNvPr id="536" name=""/>
            <p:cNvSpPr/>
            <p:nvPr/>
          </p:nvSpPr>
          <p:spPr>
            <a:xfrm>
              <a:off x="1116000" y="1500120"/>
              <a:ext cx="108360" cy="2145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224360" y="1561680"/>
              <a:ext cx="180720" cy="92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4643280" y="177156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046160" y="2709720"/>
            <a:ext cx="257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1116000" y="1773360"/>
            <a:ext cx="289080" cy="214200"/>
            <a:chOff x="1116000" y="1773360"/>
            <a:chExt cx="289080" cy="214200"/>
          </a:xfrm>
        </p:grpSpPr>
        <p:sp>
          <p:nvSpPr>
            <p:cNvPr id="541" name=""/>
            <p:cNvSpPr/>
            <p:nvPr/>
          </p:nvSpPr>
          <p:spPr>
            <a:xfrm>
              <a:off x="1116000" y="1773360"/>
              <a:ext cx="108360" cy="2142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224360" y="1834560"/>
              <a:ext cx="180720" cy="91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1116000" y="2060640"/>
            <a:ext cx="289080" cy="214200"/>
            <a:chOff x="1116000" y="2060640"/>
            <a:chExt cx="289080" cy="214200"/>
          </a:xfrm>
        </p:grpSpPr>
        <p:sp>
          <p:nvSpPr>
            <p:cNvPr id="544" name=""/>
            <p:cNvSpPr/>
            <p:nvPr/>
          </p:nvSpPr>
          <p:spPr>
            <a:xfrm>
              <a:off x="1116000" y="2060640"/>
              <a:ext cx="108360" cy="2142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224360" y="2121840"/>
              <a:ext cx="180720" cy="91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1116000" y="2349360"/>
            <a:ext cx="289080" cy="214560"/>
            <a:chOff x="1116000" y="2349360"/>
            <a:chExt cx="289080" cy="214560"/>
          </a:xfrm>
        </p:grpSpPr>
        <p:sp>
          <p:nvSpPr>
            <p:cNvPr id="547" name=""/>
            <p:cNvSpPr/>
            <p:nvPr/>
          </p:nvSpPr>
          <p:spPr>
            <a:xfrm>
              <a:off x="1116000" y="2349360"/>
              <a:ext cx="108360" cy="2145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224360" y="2410920"/>
              <a:ext cx="180720" cy="92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1116000" y="2637000"/>
            <a:ext cx="289080" cy="214200"/>
            <a:chOff x="1116000" y="2637000"/>
            <a:chExt cx="289080" cy="214200"/>
          </a:xfrm>
        </p:grpSpPr>
        <p:sp>
          <p:nvSpPr>
            <p:cNvPr id="550" name=""/>
            <p:cNvSpPr/>
            <p:nvPr/>
          </p:nvSpPr>
          <p:spPr>
            <a:xfrm>
              <a:off x="1116000" y="2637000"/>
              <a:ext cx="108360" cy="2142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224360" y="2698200"/>
              <a:ext cx="180720" cy="91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2" name=""/>
          <p:cNvSpPr/>
          <p:nvPr/>
        </p:nvSpPr>
        <p:spPr>
          <a:xfrm>
            <a:off x="2052720" y="1486080"/>
            <a:ext cx="863640" cy="358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13080" y="5013360"/>
            <a:ext cx="101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M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005560" y="5013360"/>
            <a:ext cx="89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B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1405080" y="1557360"/>
            <a:ext cx="64764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1405080" y="1628640"/>
            <a:ext cx="647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1405080" y="1701360"/>
            <a:ext cx="647640" cy="43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1405080" y="1773000"/>
            <a:ext cx="647640" cy="71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1405080" y="1844280"/>
            <a:ext cx="647640" cy="862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773520" y="1484280"/>
            <a:ext cx="863640" cy="647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d 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702960" y="5013360"/>
            <a:ext cx="90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2916360" y="1557360"/>
            <a:ext cx="86364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2916360" y="1628640"/>
            <a:ext cx="8636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549800" y="11970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4PM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343320" y="119556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0QB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2916360" y="1773360"/>
            <a:ext cx="8636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291280" y="1339920"/>
            <a:ext cx="2305080" cy="100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435640" y="1484280"/>
            <a:ext cx="863640" cy="719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r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443640" y="1484280"/>
            <a:ext cx="1008000" cy="719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ig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052720" y="1917720"/>
            <a:ext cx="863640" cy="358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052720" y="2349360"/>
            <a:ext cx="863640" cy="358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052720" y="2781360"/>
            <a:ext cx="863640" cy="358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052720" y="3213000"/>
            <a:ext cx="863640" cy="358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2916360" y="1915920"/>
            <a:ext cx="8636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2916360" y="2060280"/>
            <a:ext cx="86364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773520" y="2203560"/>
            <a:ext cx="863640" cy="647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d 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773520" y="2924280"/>
            <a:ext cx="863640" cy="647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d 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291280" y="2492280"/>
            <a:ext cx="2305080" cy="100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435640" y="2637000"/>
            <a:ext cx="863640" cy="718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r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443640" y="2637000"/>
            <a:ext cx="1008000" cy="718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ig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291280" y="3645000"/>
            <a:ext cx="2305080" cy="100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435640" y="3789360"/>
            <a:ext cx="863640" cy="719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r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443640" y="3789360"/>
            <a:ext cx="1008000" cy="719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ig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646240" y="4941720"/>
            <a:ext cx="152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r 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643280" y="1771560"/>
            <a:ext cx="57636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643280" y="1844640"/>
            <a:ext cx="576360" cy="21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4643280" y="1917720"/>
            <a:ext cx="648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4643280" y="2995560"/>
            <a:ext cx="576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4643280" y="2060640"/>
            <a:ext cx="64800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643280" y="2419200"/>
            <a:ext cx="576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643280" y="2490840"/>
            <a:ext cx="576360" cy="165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643280" y="3211560"/>
            <a:ext cx="57636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602480" y="292428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740000" y="2060640"/>
            <a:ext cx="120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ormat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602480" y="184464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02480" y="414972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707280" y="457992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796000" y="450864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843280" y="402912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h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843280" y="4508640"/>
            <a:ext cx="1008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412280" y="3573360"/>
            <a:ext cx="227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TCP implemented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843280" y="1052640"/>
            <a:ext cx="0" cy="374472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4356000" y="5589720"/>
            <a:ext cx="4537080" cy="1079280"/>
          </a:xfrm>
          <a:prstGeom prst="foldedCorner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rot="2625000">
            <a:off x="4859280" y="2922120"/>
            <a:ext cx="863640" cy="4320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84920" y="552600"/>
            <a:ext cx="754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Book Antiqua"/>
                <a:ea typeface="Arial Unicode MS"/>
              </a:rPr>
              <a:t>Large data flow of the new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619280" y="1914480"/>
            <a:ext cx="934920" cy="287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971640" y="2057400"/>
            <a:ext cx="5760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500720" y="5661000"/>
            <a:ext cx="4290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  <a:ea typeface="Arial Unicode MS"/>
              </a:rPr>
              <a:t>* GbE or 10GbE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  <a:ea typeface="Arial Unicode MS"/>
              </a:rPr>
              <a:t>* Distributed 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619280" y="2274840"/>
            <a:ext cx="934920" cy="287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619280" y="2635200"/>
            <a:ext cx="934920" cy="287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19280" y="2995560"/>
            <a:ext cx="934920" cy="287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619280" y="3354480"/>
            <a:ext cx="934920" cy="287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619280" y="3714840"/>
            <a:ext cx="934920" cy="287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619280" y="4075200"/>
            <a:ext cx="934920" cy="287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619280" y="4435560"/>
            <a:ext cx="934920" cy="287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619280" y="4794120"/>
            <a:ext cx="934920" cy="287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619280" y="5154480"/>
            <a:ext cx="934920" cy="287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140360" y="2419200"/>
            <a:ext cx="934920" cy="648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140360" y="3571920"/>
            <a:ext cx="934920" cy="647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804000" y="2563920"/>
            <a:ext cx="934920" cy="936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r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804000" y="3645000"/>
            <a:ext cx="934920" cy="863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r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954920" y="3645000"/>
            <a:ext cx="934920" cy="863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ig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954920" y="2563920"/>
            <a:ext cx="934920" cy="936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ig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20560" y="2295360"/>
            <a:ext cx="257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rot="1800000">
            <a:off x="6659280" y="2637000"/>
            <a:ext cx="2087640" cy="502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5MB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rot="1800000">
            <a:off x="155520" y="2433240"/>
            <a:ext cx="1741680" cy="430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kHz/PMT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rot="5400000">
            <a:off x="2843280" y="2419560"/>
            <a:ext cx="1008000" cy="576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468360" y="1843200"/>
            <a:ext cx="504360" cy="372960"/>
            <a:chOff x="468360" y="1843200"/>
            <a:chExt cx="504360" cy="372960"/>
          </a:xfrm>
        </p:grpSpPr>
        <p:sp>
          <p:nvSpPr>
            <p:cNvPr id="629" name=""/>
            <p:cNvSpPr/>
            <p:nvPr/>
          </p:nvSpPr>
          <p:spPr>
            <a:xfrm>
              <a:off x="468360" y="1843200"/>
              <a:ext cx="189000" cy="3729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57360" y="1950120"/>
              <a:ext cx="315360" cy="159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"/>
          <p:cNvSpPr/>
          <p:nvPr/>
        </p:nvSpPr>
        <p:spPr>
          <a:xfrm flipV="1">
            <a:off x="1116000" y="2130120"/>
            <a:ext cx="4316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1258920" y="2203200"/>
            <a:ext cx="28872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rot="2536200">
            <a:off x="2484000" y="2130480"/>
            <a:ext cx="647640" cy="142920"/>
          </a:xfrm>
          <a:prstGeom prst="rightArrow">
            <a:avLst>
              <a:gd name="adj1" fmla="val 50000"/>
              <a:gd name="adj2" fmla="val 11328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rot="1382400">
            <a:off x="2711160" y="2506680"/>
            <a:ext cx="358560" cy="142920"/>
          </a:xfrm>
          <a:prstGeom prst="rightArrow">
            <a:avLst>
              <a:gd name="adj1" fmla="val 50000"/>
              <a:gd name="adj2" fmla="val 6272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rot="332400">
            <a:off x="2553840" y="2712600"/>
            <a:ext cx="503280" cy="142920"/>
          </a:xfrm>
          <a:prstGeom prst="rightArrow">
            <a:avLst>
              <a:gd name="adj1" fmla="val 50000"/>
              <a:gd name="adj2" fmla="val 88035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rot="20714400">
            <a:off x="2556000" y="2995560"/>
            <a:ext cx="503280" cy="142920"/>
          </a:xfrm>
          <a:prstGeom prst="rightArrow">
            <a:avLst>
              <a:gd name="adj1" fmla="val 50000"/>
              <a:gd name="adj2" fmla="val 88035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635280" y="2490840"/>
            <a:ext cx="503280" cy="431640"/>
          </a:xfrm>
          <a:prstGeom prst="rightArrow">
            <a:avLst>
              <a:gd name="adj1" fmla="val 50000"/>
              <a:gd name="adj2" fmla="val 29149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rot="5400000">
            <a:off x="2843280" y="3571920"/>
            <a:ext cx="1008000" cy="576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635280" y="3643200"/>
            <a:ext cx="503280" cy="432000"/>
          </a:xfrm>
          <a:prstGeom prst="rightArrow">
            <a:avLst>
              <a:gd name="adj1" fmla="val 50000"/>
              <a:gd name="adj2" fmla="val 29125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824200" y="169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341800" y="1627200"/>
            <a:ext cx="106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0Base/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493440" y="162720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rot="1800000">
            <a:off x="3623760" y="2515680"/>
            <a:ext cx="1944720" cy="430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MB/FE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rot="5400000">
            <a:off x="5363640" y="3643200"/>
            <a:ext cx="1008000" cy="576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rot="1800000">
            <a:off x="1403280" y="1987200"/>
            <a:ext cx="1403280" cy="430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5MB/Q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076720" y="3714840"/>
            <a:ext cx="503280" cy="431640"/>
          </a:xfrm>
          <a:prstGeom prst="rightArrow">
            <a:avLst>
              <a:gd name="adj1" fmla="val 50000"/>
              <a:gd name="adj2" fmla="val 29149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rot="19570800">
            <a:off x="6084720" y="2852280"/>
            <a:ext cx="863640" cy="863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140360" y="4722840"/>
            <a:ext cx="934920" cy="647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rot="5400000">
            <a:off x="2843280" y="4722840"/>
            <a:ext cx="1008000" cy="576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635280" y="4794120"/>
            <a:ext cx="503280" cy="432000"/>
          </a:xfrm>
          <a:prstGeom prst="rightArrow">
            <a:avLst>
              <a:gd name="adj1" fmla="val 50000"/>
              <a:gd name="adj2" fmla="val 29125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rot="18818400">
            <a:off x="4989600" y="4451040"/>
            <a:ext cx="647640" cy="431640"/>
          </a:xfrm>
          <a:prstGeom prst="rightArrow">
            <a:avLst>
              <a:gd name="adj1" fmla="val 50000"/>
              <a:gd name="adj2" fmla="val 3751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156360" y="3500280"/>
            <a:ext cx="720720" cy="863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220720" y="263700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868360" y="263700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227640" y="1484280"/>
            <a:ext cx="2592360" cy="503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tal =840MB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33640" y="6021360"/>
            <a:ext cx="39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rrently measured rate is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k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2T06:03:15Z</dcterms:created>
  <dc:creator>yamada</dc:creator>
  <dc:description/>
  <dc:language>en-US</dc:language>
  <cp:lastModifiedBy>yamada</cp:lastModifiedBy>
  <dcterms:modified xsi:type="dcterms:W3CDTF">2007-03-27T10:08:47Z</dcterms:modified>
  <cp:revision>245</cp:revision>
  <dc:subject/>
  <dc:title>PowerPoint Presentation</dc:title>
</cp:coreProperties>
</file>